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2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3851280" y="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5"/>
          </p:nvPr>
        </p:nvSpPr>
        <p:spPr>
          <a:xfrm>
            <a:off x="385092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BAC7162-ABB3-4B1E-A785-A49375C712D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8A8BEC1-C874-461E-8C28-C26C2A481DE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02A9BE2-BA04-4B9B-8115-A2C6043CFC8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673165A-9FE0-41D7-865B-B42EA22A748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EC14E34-8A87-458E-BE51-58AEF7A499C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3A4C5A4-6673-4DF7-997D-08D53ABF738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A98F2B0-C83E-4696-8C7F-489D1D67B83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67DB266-6242-465F-BCB5-692F7DEC519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DD00FBF-331A-4D8B-9E0F-2C2EA00B954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7DAEFA2-CEEB-4F26-9D0C-802A5E78358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D26A848-E9EF-46CF-B781-24FA468CAB3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C124AB9-429F-4CF8-BDA4-819CD0B9916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FEITO EM FORMA DE ESCADA REPRESENTANDO A FORMA DE ALCANÇAR A M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1DBFE24-7133-4048-9B1A-71D50CF4EA0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D4424C6-478B-4F02-A2FE-978916F7413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177266EC-B648-47CB-A106-AC5FF1D552D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52235FE-4E14-4067-8427-500EB9073F0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304B32D-62E2-42C1-80ED-24D2EC29F4E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9DD6EC3-E233-442F-9046-7413A2732D1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00C63D9-CFCE-4EF5-B0E6-F19DC4983CF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7136FC5-8AC3-41CE-9268-454034A56F0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39208F9-2DC8-466C-8B33-7EDBD21D1AA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C047BACC-EA0E-4DC7-A35F-097FB8848EE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97E3C01-4C24-4893-9477-5C217BFA1D1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A03E89A5-F7F5-4834-A297-0A1B3C25048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C547835-D164-4A03-B424-D16326C583A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76C08A3-E619-4C55-B21F-DC8D7935585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B18B280-83EF-4513-9EB2-A0C56A5A45C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4D77BEA-7D20-4181-942C-F3E6E54516E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3F798FD-228E-43C3-8692-C0577CA669E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DA64CA3-C5DC-4816-8971-7E88F796D0D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CEB126B-A9AA-41B7-A436-7D5F7D22D53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31DCD39-72C0-4EE7-8F00-FB8AEE97408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912D0DD-3F2F-4C33-B6EA-97C68F47C53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9B3E1FF-4173-4C98-8AD4-4B3DA324AA0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84BF348-FC7E-43BF-B989-9EC85CE3ABC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51DF7F0-17C9-4C66-8327-D0A2870B45C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BE8FD76-DE75-45C9-A039-674A5D533CB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46DE89F-A826-4197-B5BA-1A22144008E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F6D6B0C-F930-492D-A871-28FF6629412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F87D659-AC44-457F-A0B5-C344ECF96CE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C795D85-0998-4ED8-8761-6BC56A120EA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641AFAE-4D8B-4F88-97F0-45B53D0E4BC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112C6E6D-C175-4AF2-9B10-A694BFC11B5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40BC0F0-AB1E-4171-A328-91C517DE0D7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7CBACBA-CA3B-4469-AC2D-B87B9A100A9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FB68901-5217-4FA3-91BC-79C9D766D2D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F48FF8D-EFC8-4E15-A763-0B4A0F32719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ED23453-95C6-4CCC-8143-728AD082A5C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738C740-F026-4657-82B3-86EB174E953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1AC8046-74F9-4371-A262-979A7996928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04AD6CA-0C59-46D0-891B-E9CFE2AE04C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98229ED-60E8-471F-A599-3957016F593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0C97CC1-0212-46F3-A0FD-5A6EADC8054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BC7F489-D91F-47D5-9A23-9562155DED5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C9C99AA-92B9-4F56-9670-74886CFD81C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C27F6A2-212D-4EE8-81CA-B7DBCC1DC90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BE423C9-45F8-4452-9F1A-3E4FC24D08B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6268DED-4448-48B4-B608-39934847B9D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63E9229-3D4B-48E8-B483-A72B2D7D8E1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716636E-99DE-42AA-A60A-86FF93EE6B1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C8C0B28-540E-4EC7-83B6-8FD531F70A5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21A01B4-0EBD-4E72-960C-C46DEFDE569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FFED02A-5336-41A6-87FF-BBEDDAEC1D7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983842EA-71D7-4C20-A655-2913A6F1EB2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1A219A6-F768-4456-AD6F-746CD9E2D1B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2AB914B-F6DF-4FD8-B5B7-03EC28410C2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7B34EA3-D19B-492A-9860-CADE4AC445C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581B42C-C779-4580-9F27-46A739CC365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C76A2421-4F21-442F-A75C-3BA6ED10C20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8453F13-E6E6-44D2-AE70-6C39B0F5F25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470DF59-ABB2-46F9-B15F-57478983609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8078816-B537-465E-9207-4A18311D27B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8306F9F-EFC2-4E44-B616-0510493338F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9F9EDBA-7FEC-477E-8B72-6C50E794F97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8C53E73-D0B9-481F-B5F2-AED7725C691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6BA4BCD-C352-47F9-ACB6-82BC06292B6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5A8ED7F-8BF9-4EE6-B240-8D955E78CA6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392231C-E742-4D68-8E60-64B5A279141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D21C684-0239-40E6-80B1-8C129136471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549F981-B9D8-4B00-BA24-4AD2B622C62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95B036A-02B9-4EB2-94FA-712C8F5BABC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CCBF2DD3-930E-4521-B716-15CB01FF88B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C513D93-1024-4B55-B205-7895E072F6E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E7F1E97-E2A3-48D2-8F62-2A765236CF4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C46A641-E1DC-4405-AFC0-BBF7053963F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BD9DBE6-420D-47E6-A8EE-1031F2960DC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39764CA-0AFE-4E92-A12B-7BE4E462D4D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6226F5F8-5C54-44B0-8AF4-84E19AC156B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069C247-C3CF-4268-BFB7-F954E2CE36F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8C1553C-AB8E-4269-97CE-F5512A53D7D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A0ED77BE-FB97-44C7-B30A-1FC12052A09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100A693-7E38-47E5-A90C-9EE169AE092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B873F714-550B-438B-9412-9602EC62738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0730FEE-A553-4F88-ACE4-7DDC8FAC309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A26CF7C3-7693-49D4-9105-10BDAD2E4EE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621A1CE-3609-441A-8609-39D7C2391A1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C05B97F-FABC-4C60-A745-ECB949870262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552BABAC-1D44-4C0C-839B-60769D439BF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7886EDE-E215-4908-95D4-E73BBB870C3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E0110C9E-7F32-4095-80A9-E7FFE29771F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42E57F6-D3C9-4F43-8E3B-09BA03E307D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55C92A6-D2FC-4866-9181-D6BD71813BD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43D1254-0643-43C4-971D-F9D74127649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AAB699FB-A528-49BC-B3B7-B6B5DA782E8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909D73D-D741-4BF7-87AE-C30B26CC956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2EBA8E48-ACB7-4245-9F4A-096D6D27539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9FBFA7C-EA81-40B9-8803-129D8510B0E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DBAAF-537A-4141-A518-3A323E0B9BC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8C886AE1-59A9-4E5C-96B0-694F2B4175D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EE7CA33-6597-4378-BE7E-58D3C7818DA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F0C0DDC5-F109-4FDF-9558-133EC274940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1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456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4BF91D69-5E21-49D3-BC44-D9F96E2E3C1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016D-B659-4272-BB48-DC109CF0A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4A0A-604A-4D61-B754-18FB590C6F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F504-7252-43CF-AA34-97EF453CD9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9DBA3-BB80-4DC4-B822-5C5AA28F717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3E97-CC2C-4B70-B84A-73D7184D7F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4520-C871-43BF-951E-FA9E84D771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B96D-6C7D-418D-9769-7ADBB84D8E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526C-BB72-4316-B11F-6501A0977EB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40DF-3B0C-4D88-ADB5-635120D30D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0991-C923-4B18-BCCC-E17230F785D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D011-9626-4A31-973E-154BB11CFD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4128-7121-4C7B-8723-404E833E18F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4E9A-5103-4366-9E7A-712E3C854F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3DEF-B768-4AA3-848F-B528AADB3EE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098BB-653D-416E-A53A-F6DCE24FD60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5DCED-1001-4A1D-BDD1-538FFA9E624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1FF9C-3274-4A50-84CC-889F856EDF6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ACA5D-35C5-4373-A04B-3D314CE7BD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550B-6BEB-459C-831A-2F282C14480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711D-C276-4CE6-BEF6-D719F0A4855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FE69-2BDD-40D7-B0FD-70E1310F0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4FB5-DC33-4CC7-8C24-3FEDCBEFD9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36E2-2F38-4014-A377-EDFDD0B3D19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A599-3E2D-44FE-A920-8C5125BB29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AA3-C54D-4F1C-9AA7-AFF931A2DA3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B2AF-0FBD-4642-875F-A4530E32C32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4BC-8770-4ED3-9975-4C90F6FD63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90F-FA03-4B01-BBA2-AE4723659C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9BE-F143-4D9D-8FE6-1992F53682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7F2-2318-43EA-879F-F6F5BF62EE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CDB-5A18-4709-B591-F368FAB97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F45-6B82-49AC-9125-49C35C6A247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0F2-C41A-45B9-9944-AB5B994D947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0D0-712B-4FEE-A417-5F59395B4B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AD7-0D5C-4BE0-83AE-A12C4F22B06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7F4-87F3-4895-B035-329B47A30E9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DD0AB-9B8C-4688-9397-FED04B9A1DE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198F5-4A35-4C45-9B1C-9427590F6E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81479-709E-47B6-B236-03D45EFD80D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5395D-79B3-4F8D-B64D-356F0380C24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39EA6-9138-4ADB-AF0D-9DD83F028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E3476-2EF3-4184-A009-18260885FE5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B173F-D5E1-4FA2-9B91-F07BB7E7738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23290-F6C1-4801-9B34-E113CFF806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54206-42A6-4100-BAFC-A3E774CD48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3BBA9-FAD4-4A7B-9EDA-D92FD5B817E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2C815-31C9-4D2E-891A-6B11970D3DA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F2AAF-40A9-40CF-B2F9-9672FAD9B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5"/>
          <a:stretch/>
        </p:blipFill>
        <p:spPr>
          <a:xfrm>
            <a:off x="1787400" y="2503440"/>
            <a:ext cx="5569200" cy="2139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5"/>
          <a:stretch/>
        </p:blipFill>
        <p:spPr>
          <a:xfrm>
            <a:off x="6319800" y="5649840"/>
            <a:ext cx="2414520" cy="928800"/>
          </a:xfrm>
          <a:prstGeom prst="rect">
            <a:avLst/>
          </a:prstGeom>
          <a:ln w="0">
            <a:noFill/>
          </a:ln>
        </p:spPr>
      </p:pic>
      <p:sp>
        <p:nvSpPr>
          <p:cNvPr id="86" name="Line 5"/>
          <p:cNvSpPr/>
          <p:nvPr/>
        </p:nvSpPr>
        <p:spPr>
          <a:xfrm>
            <a:off x="0" y="5322960"/>
            <a:ext cx="9128160" cy="1260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5"/>
          <a:stretch/>
        </p:blipFill>
        <p:spPr>
          <a:xfrm>
            <a:off x="1079640" y="3780000"/>
            <a:ext cx="2414520" cy="928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Num" idx="1"/>
          </p:nvPr>
        </p:nvSpPr>
        <p:spPr>
          <a:xfrm>
            <a:off x="7543440" y="6356160"/>
            <a:ext cx="987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7C871947-B7E9-412D-8468-23A92D561ACC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Num" idx="2"/>
          </p:nvPr>
        </p:nvSpPr>
        <p:spPr>
          <a:xfrm>
            <a:off x="7543440" y="6356160"/>
            <a:ext cx="987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3A3ADDC4-A6EF-4470-8F45-5B485C198B9B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Num" idx="3"/>
          </p:nvPr>
        </p:nvSpPr>
        <p:spPr>
          <a:xfrm>
            <a:off x="7543440" y="6356160"/>
            <a:ext cx="987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DD6AE317-F1A6-4D4F-B482-0BC8C580E7CE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3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Num" idx="4"/>
          </p:nvPr>
        </p:nvSpPr>
        <p:spPr>
          <a:xfrm>
            <a:off x="7543440" y="6356160"/>
            <a:ext cx="987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fld id="{06B326B2-53CE-4F57-8135-E14B1C415F1D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3003480" y="4259160"/>
            <a:ext cx="277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Arial Black"/>
              </a:rPr>
              <a:t>LD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Arial Black"/>
              </a:rPr>
              <a:t>2 0 2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1547640" y="1268280"/>
            <a:ext cx="5689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6800" spc="-1" strike="noStrike">
                <a:solidFill>
                  <a:srgbClr val="000000"/>
                </a:solidFill>
                <a:latin typeface="Arial Black"/>
              </a:rPr>
              <a:t>AUDIÊNCIA PÚBLICA</a:t>
            </a:r>
            <a:br>
              <a:rPr sz="5500"/>
            </a:br>
            <a:r>
              <a:rPr b="1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05/09/2025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2301840" y="112680"/>
            <a:ext cx="45104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NICÍPIO DE BALNEÁRIO CAMBORI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pital Catarinense do Tur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70036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971640" y="115920"/>
            <a:ext cx="7010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Calibri Light"/>
              </a:rPr>
              <a:t>EVOLUÇÃO DA RECEITA TOTA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152"/>
          <p:cNvSpPr/>
          <p:nvPr/>
        </p:nvSpPr>
        <p:spPr>
          <a:xfrm>
            <a:off x="6741000" y="847800"/>
            <a:ext cx="1680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Valores em Milhar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698400" y="1243080"/>
          <a:ext cx="7705800" cy="4371840"/>
        </p:xfrm>
        <a:graphic>
          <a:graphicData uri="http://schemas.openxmlformats.org/drawingml/2006/table">
            <a:tbl>
              <a:tblPr/>
              <a:tblGrid>
                <a:gridCol w="1224000"/>
                <a:gridCol w="1873440"/>
                <a:gridCol w="1646280"/>
                <a:gridCol w="1269720"/>
                <a:gridCol w="1692360"/>
              </a:tblGrid>
              <a:tr h="1229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PREVIS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ARRECAD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(EXECUTADO X PREVIST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EVOLUÇÃO EM RELAÇÃO AO ANO ANTERI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4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.7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.1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.5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8.5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0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18.0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3.88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6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6.8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4.8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2.6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0.2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1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88.8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18.0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7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30.7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75.4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9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70.9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execução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6.8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tramit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1042920" y="115920"/>
            <a:ext cx="71280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Calibri Light"/>
              </a:rPr>
              <a:t>RECEITAS LDO 2026 </a:t>
            </a:r>
            <a:br>
              <a:rPr sz="4000"/>
            </a:br>
            <a:r>
              <a:rPr b="1" lang="pt-BR" sz="1700" spc="-1" strike="noStrike">
                <a:solidFill>
                  <a:srgbClr val="3b3838"/>
                </a:solidFill>
                <a:latin typeface="Calibri Light"/>
              </a:rPr>
              <a:t>POR CATEGORIA ECONÔMIC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116000" y="1557360"/>
          <a:ext cx="6916680" cy="3313080"/>
        </p:xfrm>
        <a:graphic>
          <a:graphicData uri="http://schemas.openxmlformats.org/drawingml/2006/table">
            <a:tbl>
              <a:tblPr/>
              <a:tblGrid>
                <a:gridCol w="3479760"/>
                <a:gridCol w="1941480"/>
                <a:gridCol w="1495440"/>
              </a:tblGrid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CORRENTE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05.737.15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31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3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INTRA-ORÇAMENTÁRI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.738.0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6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DE CAPITAL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.392.72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3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11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ERAL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16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76.867.87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16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"/>
          <p:cNvSpPr/>
          <p:nvPr/>
        </p:nvSpPr>
        <p:spPr>
          <a:xfrm>
            <a:off x="1434960" y="11160"/>
            <a:ext cx="6193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300" spc="-1" strike="noStrike">
                <a:solidFill>
                  <a:srgbClr val="3b3838"/>
                </a:solidFill>
                <a:latin typeface="Arial"/>
              </a:rPr>
              <a:t>RECEITAS LDO 2026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3b3838"/>
                </a:solidFill>
                <a:latin typeface="Arial"/>
              </a:rPr>
              <a:t>PELA ORIG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3520" y="1268280"/>
          <a:ext cx="7995960" cy="4842000"/>
        </p:xfrm>
        <a:graphic>
          <a:graphicData uri="http://schemas.openxmlformats.org/drawingml/2006/table">
            <a:tbl>
              <a:tblPr/>
              <a:tblGrid>
                <a:gridCol w="5043240"/>
                <a:gridCol w="1800360"/>
                <a:gridCol w="1152360"/>
              </a:tblGrid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 e Tax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1.787.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.963.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138.5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825.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orrentes Uni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.580.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orrentes Est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618.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.0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560.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de Operações de Créd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.0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 de Convên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892.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1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de Capital(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/OUC/ICON/ICAD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3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76.867.8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395280" y="260280"/>
            <a:ext cx="8137440" cy="100800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CONDIÇÕES PARA ATINGIR A</a:t>
            </a:r>
            <a:br>
              <a:rPr sz="3300"/>
            </a:b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 META DA RECEIT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463680" y="1987560"/>
            <a:ext cx="8418240" cy="20890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1117440" cy="1297080"/>
          </a:xfrm>
          <a:prstGeom prst="rect">
            <a:avLst/>
          </a:prstGeom>
          <a:ln w="0">
            <a:noFill/>
          </a:ln>
        </p:spPr>
      </p:pic>
      <p:sp>
        <p:nvSpPr>
          <p:cNvPr id="403" name="CaixaDeTexto 1"/>
          <p:cNvSpPr/>
          <p:nvPr/>
        </p:nvSpPr>
        <p:spPr>
          <a:xfrm>
            <a:off x="654840" y="4221000"/>
            <a:ext cx="8369280" cy="1739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tuações que podem impactar a arrecadação a partir do exercício de 2026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ffc000"/>
                </a:solidFill>
                <a:latin typeface="Arial"/>
              </a:rPr>
              <a:t>Reforma Tributária (IBS – CBS – 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ffc000"/>
                </a:solidFill>
                <a:latin typeface="Arial"/>
              </a:rPr>
              <a:t>Redução da base de cálculo Imposto de R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ffc000"/>
                </a:solidFill>
                <a:latin typeface="Arial"/>
              </a:rPr>
              <a:t>Lei da liberdade econômica (impacto já previsto na LD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1116000" y="1557360"/>
            <a:ext cx="708660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br>
              <a:rPr sz="4000"/>
            </a:br>
            <a:r>
              <a:rPr b="1" lang="pt-BR" sz="7200" spc="-1" strike="noStrike">
                <a:solidFill>
                  <a:srgbClr val="3b3838"/>
                </a:solidFill>
                <a:latin typeface="Calibri Light"/>
              </a:rPr>
              <a:t>METAS DE DESPESAS</a:t>
            </a:r>
            <a:br>
              <a:rPr sz="7200"/>
            </a:b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Aplicação dos Recurs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1619280" y="2095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 D O - 20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971640" y="189000"/>
            <a:ext cx="7010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Calibri Light"/>
              </a:rPr>
              <a:t>EVOLUÇÃO DAS DESPESA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332000" y="1236600"/>
          <a:ext cx="7127640" cy="4067280"/>
        </p:xfrm>
        <a:graphic>
          <a:graphicData uri="http://schemas.openxmlformats.org/drawingml/2006/table">
            <a:tbl>
              <a:tblPr/>
              <a:tblGrid>
                <a:gridCol w="1584360"/>
                <a:gridCol w="1800000"/>
                <a:gridCol w="2087640"/>
                <a:gridCol w="1655640"/>
              </a:tblGrid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TAÇÃO ATUALIZ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EXECUT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EXECUTADO EM RELAÇÃO AO FIX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7.141.2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713.6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0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.168.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.044.8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5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55.700.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.0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7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65.323.7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6.402.7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3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62.540.0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3.665.8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8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87.760.3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8.226.6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6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62.652.4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5.870.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30.702.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20.267.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4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70.901.3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execu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6.867.8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tramit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934920" y="1268280"/>
          <a:ext cx="7274160" cy="3754440"/>
        </p:xfrm>
        <a:graphic>
          <a:graphicData uri="http://schemas.openxmlformats.org/drawingml/2006/table">
            <a:tbl>
              <a:tblPr/>
              <a:tblGrid>
                <a:gridCol w="4178520"/>
                <a:gridCol w="2012760"/>
                <a:gridCol w="108288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za da Recei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2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3.906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5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3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1.806.1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1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.174.9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3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457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393.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91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ERAL LÍQU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76.867.8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409" name="Text Box 1"/>
          <p:cNvSpPr/>
          <p:nvPr/>
        </p:nvSpPr>
        <p:spPr>
          <a:xfrm>
            <a:off x="1066680" y="165240"/>
            <a:ext cx="7010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Calibri Light"/>
              </a:rPr>
              <a:t>DESPESAS PELA NATUREZ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971640" y="1125360"/>
            <a:ext cx="70866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DETALHAMENTOS DAS DESPEA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Calibri"/>
              </a:rPr>
              <a:t>ORÇAMENTO 2026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"/>
          <p:cNvGrpSpPr/>
          <p:nvPr/>
        </p:nvGrpSpPr>
        <p:grpSpPr>
          <a:xfrm>
            <a:off x="468360" y="28440"/>
            <a:ext cx="7772400" cy="809640"/>
            <a:chOff x="468360" y="28440"/>
            <a:chExt cx="7772400" cy="809640"/>
          </a:xfrm>
        </p:grpSpPr>
        <p:sp>
          <p:nvSpPr>
            <p:cNvPr id="412" name="AutoShape 2"/>
            <p:cNvSpPr/>
            <p:nvPr/>
          </p:nvSpPr>
          <p:spPr>
            <a:xfrm>
              <a:off x="468360" y="28440"/>
              <a:ext cx="7772400" cy="7192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3"/>
            <p:cNvSpPr/>
            <p:nvPr/>
          </p:nvSpPr>
          <p:spPr>
            <a:xfrm>
              <a:off x="538200" y="28440"/>
              <a:ext cx="7702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CASA CIVIL  E GABINETE DA PREFEITA – R$ 8,1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14" name=""/>
          <p:cNvGraphicFramePr/>
          <p:nvPr/>
        </p:nvGraphicFramePr>
        <p:xfrm>
          <a:off x="468360" y="911160"/>
          <a:ext cx="7778880" cy="4865760"/>
        </p:xfrm>
        <a:graphic>
          <a:graphicData uri="http://schemas.openxmlformats.org/drawingml/2006/table">
            <a:tbl>
              <a:tblPr/>
              <a:tblGrid>
                <a:gridCol w="812880"/>
                <a:gridCol w="6966000"/>
              </a:tblGrid>
              <a:tr h="307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7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ministração e Manutenção do Gabinete da Prefei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ministração e Manutenção SECAC - Administr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ministração e Manutenção SECAC - Planejamento Estratég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ministração e Manutenção SECAC - Cerimonial e Even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ministração e Manutenção SECAC - Junta Mili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ribuição à Entidades Representativas de Clas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tenção e Rateio do Consórcio CIM - AMF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3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1"/>
          <p:cNvGrpSpPr/>
          <p:nvPr/>
        </p:nvGrpSpPr>
        <p:grpSpPr>
          <a:xfrm>
            <a:off x="460440" y="0"/>
            <a:ext cx="7772400" cy="809640"/>
            <a:chOff x="460440" y="0"/>
            <a:chExt cx="7772400" cy="809640"/>
          </a:xfrm>
        </p:grpSpPr>
        <p:sp>
          <p:nvSpPr>
            <p:cNvPr id="416" name="AutoShape 2"/>
            <p:cNvSpPr/>
            <p:nvPr/>
          </p:nvSpPr>
          <p:spPr>
            <a:xfrm>
              <a:off x="460440" y="0"/>
              <a:ext cx="7772400" cy="7192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3"/>
            <p:cNvSpPr/>
            <p:nvPr/>
          </p:nvSpPr>
          <p:spPr>
            <a:xfrm>
              <a:off x="530280" y="0"/>
              <a:ext cx="7702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100" spc="-1" strike="noStrike">
                  <a:solidFill>
                    <a:srgbClr val="ffffff"/>
                  </a:solidFill>
                  <a:latin typeface="Arial"/>
                </a:rPr>
                <a:t>GABINETE DO VICE-PREFEITO – R$ 921 mil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AutoShape 2"/>
          <p:cNvSpPr/>
          <p:nvPr/>
        </p:nvSpPr>
        <p:spPr>
          <a:xfrm>
            <a:off x="433440" y="3041640"/>
            <a:ext cx="7772400" cy="7192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RTICULAÇÃO POLÍTICA E RELAÇÕES INSTITUCIONAIS - </a:t>
            </a:r>
            <a:r>
              <a:rPr b="1" lang="pt-BR" sz="1800" spc="-1" strike="noStrike">
                <a:solidFill>
                  <a:srgbClr val="ffffff"/>
                </a:solidFill>
                <a:latin typeface="Calibri"/>
              </a:rPr>
              <a:t>R$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1.7 mi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95360" y="4149720"/>
          <a:ext cx="7772400" cy="1584360"/>
        </p:xfrm>
        <a:graphic>
          <a:graphicData uri="http://schemas.openxmlformats.org/drawingml/2006/table">
            <a:tbl>
              <a:tblPr/>
              <a:tblGrid>
                <a:gridCol w="61920"/>
                <a:gridCol w="628560"/>
                <a:gridCol w="7081920"/>
              </a:tblGrid>
              <a:tr h="94140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ministração e Manutenção da SEAR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ministração e Melhorias da Casa dos Conselh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449280" y="981000"/>
          <a:ext cx="7772400" cy="1619280"/>
        </p:xfrm>
        <a:graphic>
          <a:graphicData uri="http://schemas.openxmlformats.org/drawingml/2006/table">
            <a:tbl>
              <a:tblPr/>
              <a:tblGrid>
                <a:gridCol w="61920"/>
                <a:gridCol w="628560"/>
                <a:gridCol w="7081920"/>
              </a:tblGrid>
              <a:tr h="12607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55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o Gabinete Vice-Prefe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Gestão do Vice-Prefe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682560" y="981000"/>
            <a:ext cx="7802640" cy="52801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"/>
          <p:cNvSpPr/>
          <p:nvPr/>
        </p:nvSpPr>
        <p:spPr>
          <a:xfrm>
            <a:off x="1225800" y="34920"/>
            <a:ext cx="67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LDO - Fundamentos Leg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1"/>
          <p:cNvGrpSpPr/>
          <p:nvPr/>
        </p:nvGrpSpPr>
        <p:grpSpPr>
          <a:xfrm>
            <a:off x="684360" y="171360"/>
            <a:ext cx="7772400" cy="809640"/>
            <a:chOff x="684360" y="171360"/>
            <a:chExt cx="7772400" cy="809640"/>
          </a:xfrm>
        </p:grpSpPr>
        <p:sp>
          <p:nvSpPr>
            <p:cNvPr id="422" name="AutoShape 2"/>
            <p:cNvSpPr/>
            <p:nvPr/>
          </p:nvSpPr>
          <p:spPr>
            <a:xfrm>
              <a:off x="684360" y="171360"/>
              <a:ext cx="7772400" cy="7192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3"/>
            <p:cNvSpPr/>
            <p:nvPr/>
          </p:nvSpPr>
          <p:spPr>
            <a:xfrm>
              <a:off x="754200" y="171360"/>
              <a:ext cx="7702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100" spc="-1" strike="noStrike">
                  <a:solidFill>
                    <a:srgbClr val="ffffff"/>
                  </a:solidFill>
                  <a:latin typeface="Arial"/>
                </a:rPr>
                <a:t>PROCURADORIA GERAL DO MUNICÍPIO – R$ 19.8 mi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" name="AutoShape 2"/>
          <p:cNvSpPr/>
          <p:nvPr/>
        </p:nvSpPr>
        <p:spPr>
          <a:xfrm>
            <a:off x="484200" y="2739960"/>
            <a:ext cx="7772400" cy="7192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Arial"/>
              </a:rPr>
              <a:t>SECRETARIA DE COMUNICAÇÃO – </a:t>
            </a:r>
            <a:r>
              <a:rPr b="1" lang="pt-BR" sz="2100" spc="-1" strike="noStrike">
                <a:solidFill>
                  <a:srgbClr val="ffffff"/>
                </a:solidFill>
                <a:latin typeface="Calibri"/>
              </a:rPr>
              <a:t>R$ </a:t>
            </a:r>
            <a:r>
              <a:rPr b="1" lang="pt-BR" sz="2100" spc="-1" strike="noStrike">
                <a:solidFill>
                  <a:srgbClr val="ffffff"/>
                </a:solidFill>
                <a:latin typeface="Arial"/>
              </a:rPr>
              <a:t>9 m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495360" y="3782880"/>
          <a:ext cx="7772400" cy="2024280"/>
        </p:xfrm>
        <a:graphic>
          <a:graphicData uri="http://schemas.openxmlformats.org/drawingml/2006/table">
            <a:tbl>
              <a:tblPr/>
              <a:tblGrid>
                <a:gridCol w="61920"/>
                <a:gridCol w="628560"/>
                <a:gridCol w="7081920"/>
              </a:tblGrid>
              <a:tr h="12607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42   Estruturação da Secretaria de Comunic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Secretaria de Comunicaçã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0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ublicidade e Propaganda Govername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493560" y="981000"/>
          <a:ext cx="7772400" cy="1622520"/>
        </p:xfrm>
        <a:graphic>
          <a:graphicData uri="http://schemas.openxmlformats.org/drawingml/2006/table">
            <a:tbl>
              <a:tblPr/>
              <a:tblGrid>
                <a:gridCol w="61920"/>
                <a:gridCol w="628920"/>
                <a:gridCol w="7081560"/>
              </a:tblGrid>
              <a:tr h="12607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4  Reforma do Prédio da PG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G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1"/>
          <p:cNvGrpSpPr/>
          <p:nvPr/>
        </p:nvGrpSpPr>
        <p:grpSpPr>
          <a:xfrm>
            <a:off x="493560" y="-1440"/>
            <a:ext cx="7772400" cy="809640"/>
            <a:chOff x="493560" y="-1440"/>
            <a:chExt cx="7772400" cy="809640"/>
          </a:xfrm>
        </p:grpSpPr>
        <p:sp>
          <p:nvSpPr>
            <p:cNvPr id="428" name="AutoShape 2"/>
            <p:cNvSpPr/>
            <p:nvPr/>
          </p:nvSpPr>
          <p:spPr>
            <a:xfrm>
              <a:off x="493560" y="-1440"/>
              <a:ext cx="7772400" cy="7192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3"/>
            <p:cNvSpPr/>
            <p:nvPr/>
          </p:nvSpPr>
          <p:spPr>
            <a:xfrm>
              <a:off x="563400" y="-1440"/>
              <a:ext cx="7702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100" spc="-1" strike="noStrike">
                  <a:solidFill>
                    <a:srgbClr val="ffffff"/>
                  </a:solidFill>
                  <a:latin typeface="Arial"/>
                </a:rPr>
                <a:t>CONTROLADORIA-GERAL DO MUNICÍPIO – R$ 3.7 mi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AutoShape 2"/>
          <p:cNvSpPr/>
          <p:nvPr/>
        </p:nvSpPr>
        <p:spPr>
          <a:xfrm>
            <a:off x="490680" y="2278080"/>
            <a:ext cx="7772400" cy="7192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Arial"/>
              </a:rPr>
              <a:t>GESTÃO DE PESSOAS - </a:t>
            </a:r>
            <a:r>
              <a:rPr b="1" lang="pt-BR" sz="2100" spc="-1" strike="noStrike">
                <a:solidFill>
                  <a:srgbClr val="ffffff"/>
                </a:solidFill>
                <a:latin typeface="Calibri"/>
              </a:rPr>
              <a:t>R$ 92.3 m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93560" y="981000"/>
          <a:ext cx="7772400" cy="1123920"/>
        </p:xfrm>
        <a:graphic>
          <a:graphicData uri="http://schemas.openxmlformats.org/drawingml/2006/table">
            <a:tbl>
              <a:tblPr/>
              <a:tblGrid>
                <a:gridCol w="61920"/>
                <a:gridCol w="628920"/>
                <a:gridCol w="7081560"/>
              </a:tblGrid>
              <a:tr h="758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Manutenção da Controladoria Municip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490680" y="3271680"/>
          <a:ext cx="7772400" cy="2943360"/>
        </p:xfrm>
        <a:graphic>
          <a:graphicData uri="http://schemas.openxmlformats.org/drawingml/2006/table">
            <a:tbl>
              <a:tblPr/>
              <a:tblGrid>
                <a:gridCol w="61920"/>
                <a:gridCol w="628560"/>
                <a:gridCol w="7081920"/>
              </a:tblGrid>
              <a:tr h="12607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44   Reforma e Reparos na SEG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Gestão de Pesso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tão Alimentação aos Servidores Públic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Contínua para Excelência no Serviço Público - SEG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7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aúde e Proteção do Trabalhador - SESM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- PMBC G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"/>
          <p:cNvGrpSpPr/>
          <p:nvPr/>
        </p:nvGrpSpPr>
        <p:grpSpPr>
          <a:xfrm>
            <a:off x="468360" y="28440"/>
            <a:ext cx="7772400" cy="809640"/>
            <a:chOff x="468360" y="28440"/>
            <a:chExt cx="7772400" cy="809640"/>
          </a:xfrm>
        </p:grpSpPr>
        <p:sp>
          <p:nvSpPr>
            <p:cNvPr id="434" name="AutoShape 2"/>
            <p:cNvSpPr/>
            <p:nvPr/>
          </p:nvSpPr>
          <p:spPr>
            <a:xfrm>
              <a:off x="468360" y="28440"/>
              <a:ext cx="7772400" cy="7192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3"/>
            <p:cNvSpPr/>
            <p:nvPr/>
          </p:nvSpPr>
          <p:spPr>
            <a:xfrm>
              <a:off x="538200" y="28440"/>
              <a:ext cx="7702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Calibri"/>
                </a:rPr>
                <a:t>GOVERNO, INOVAÇÃO DE ORÇAMENTO – SEGOV – R$ 22.8 m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36" name=""/>
          <p:cNvGraphicFramePr/>
          <p:nvPr/>
        </p:nvGraphicFramePr>
        <p:xfrm>
          <a:off x="538200" y="911160"/>
          <a:ext cx="7709040" cy="5230800"/>
        </p:xfrm>
        <a:graphic>
          <a:graphicData uri="http://schemas.openxmlformats.org/drawingml/2006/table">
            <a:tbl>
              <a:tblPr/>
              <a:tblGrid>
                <a:gridCol w="806400"/>
                <a:gridCol w="6902640"/>
              </a:tblGrid>
              <a:tr h="306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7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dministrativo SEGOV - Departamento de 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2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dministrativo SEGOV - Departamento de Captação De Recur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dministrativo SEGOV - Departamento de Orç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dministrativo SEGOV - Departamento de Divisão de Gestão Estratég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dministrativo SEGOV - Gabine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rte de Capital - BC Investiment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dministrativo e Gestão - Departamento de Divisão Tecnologia da Inform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Modernização Tecnológica - Departamento de Divisão Tecnologia da Inform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5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ualização de Infraestrutura Data Cen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2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1"/>
          <p:cNvGrpSpPr/>
          <p:nvPr/>
        </p:nvGrpSpPr>
        <p:grpSpPr>
          <a:xfrm>
            <a:off x="468360" y="28440"/>
            <a:ext cx="7772400" cy="809640"/>
            <a:chOff x="468360" y="28440"/>
            <a:chExt cx="7772400" cy="809640"/>
          </a:xfrm>
        </p:grpSpPr>
        <p:sp>
          <p:nvSpPr>
            <p:cNvPr id="438" name="AutoShape 2"/>
            <p:cNvSpPr/>
            <p:nvPr/>
          </p:nvSpPr>
          <p:spPr>
            <a:xfrm>
              <a:off x="468360" y="28440"/>
              <a:ext cx="7772400" cy="7192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3"/>
            <p:cNvSpPr/>
            <p:nvPr/>
          </p:nvSpPr>
          <p:spPr>
            <a:xfrm>
              <a:off x="538200" y="28440"/>
              <a:ext cx="7702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300" spc="-1" strike="noStrike">
                  <a:solidFill>
                    <a:srgbClr val="ffffff"/>
                  </a:solidFill>
                  <a:latin typeface="Calibri"/>
                </a:rPr>
                <a:t>COMPRAS E PATRIMÔNIO – R$ 15.3 mi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40" name=""/>
          <p:cNvGraphicFramePr/>
          <p:nvPr/>
        </p:nvGraphicFramePr>
        <p:xfrm>
          <a:off x="538200" y="911160"/>
          <a:ext cx="7709040" cy="4865760"/>
        </p:xfrm>
        <a:graphic>
          <a:graphicData uri="http://schemas.openxmlformats.org/drawingml/2006/table">
            <a:tbl>
              <a:tblPr/>
              <a:tblGrid>
                <a:gridCol w="806400"/>
                <a:gridCol w="6902640"/>
              </a:tblGrid>
              <a:tr h="2818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1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7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equações e Melhorias na Estrutura Física da SEC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a SECOP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Departamento de Planejamento e Licit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onsórcio Interfederativo Santa Catarina - CINCATAR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Departamento de Patrimôni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Departamento de Logíst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oordenação de Marcena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6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4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4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1"/>
          <p:cNvGrpSpPr/>
          <p:nvPr/>
        </p:nvGrpSpPr>
        <p:grpSpPr>
          <a:xfrm>
            <a:off x="468360" y="28440"/>
            <a:ext cx="7772400" cy="809640"/>
            <a:chOff x="468360" y="28440"/>
            <a:chExt cx="7772400" cy="809640"/>
          </a:xfrm>
        </p:grpSpPr>
        <p:sp>
          <p:nvSpPr>
            <p:cNvPr id="442" name="AutoShape 2"/>
            <p:cNvSpPr/>
            <p:nvPr/>
          </p:nvSpPr>
          <p:spPr>
            <a:xfrm>
              <a:off x="468360" y="28440"/>
              <a:ext cx="7772400" cy="7192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3"/>
            <p:cNvSpPr/>
            <p:nvPr/>
          </p:nvSpPr>
          <p:spPr>
            <a:xfrm>
              <a:off x="538200" y="28440"/>
              <a:ext cx="77025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300" spc="-1" strike="noStrike">
                  <a:solidFill>
                    <a:srgbClr val="ffffff"/>
                  </a:solidFill>
                  <a:latin typeface="Calibri"/>
                </a:rPr>
                <a:t>SECRETARIA DA FAZENDA – R$ 30.4 mi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44" name=""/>
          <p:cNvGraphicFramePr/>
          <p:nvPr/>
        </p:nvGraphicFramePr>
        <p:xfrm>
          <a:off x="538200" y="911160"/>
          <a:ext cx="7709040" cy="5091120"/>
        </p:xfrm>
        <a:graphic>
          <a:graphicData uri="http://schemas.openxmlformats.org/drawingml/2006/table">
            <a:tbl>
              <a:tblPr/>
              <a:tblGrid>
                <a:gridCol w="806400"/>
                <a:gridCol w="6902640"/>
              </a:tblGrid>
              <a:tr h="2833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/reforma do Prédio da Secretaria da Faz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7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odernização do Sistema de Administração Fazendá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2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Direção Geral da Secretaria da Faz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Finanças e Educação Fisc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Fiscalização Fazendá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5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Contadoria Geral do Municíp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ministração da Arrecadação e Dívida Ativa Municip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e Pessoal e Encargos - PROCO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45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2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3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1"/>
          <p:cNvGrpSpPr/>
          <p:nvPr/>
        </p:nvGrpSpPr>
        <p:grpSpPr>
          <a:xfrm>
            <a:off x="324000" y="73080"/>
            <a:ext cx="8348400" cy="590400"/>
            <a:chOff x="324000" y="73080"/>
            <a:chExt cx="8348400" cy="590400"/>
          </a:xfrm>
        </p:grpSpPr>
        <p:sp>
          <p:nvSpPr>
            <p:cNvPr id="446" name="AutoShape 2"/>
            <p:cNvSpPr/>
            <p:nvPr/>
          </p:nvSpPr>
          <p:spPr>
            <a:xfrm>
              <a:off x="324000" y="73080"/>
              <a:ext cx="8348400" cy="59040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3"/>
            <p:cNvSpPr/>
            <p:nvPr/>
          </p:nvSpPr>
          <p:spPr>
            <a:xfrm>
              <a:off x="361800" y="101520"/>
              <a:ext cx="8272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Calibri"/>
                </a:rPr>
                <a:t>ASSISTÊNCIA SOCIAL, MULHER E FAMÍLIA – SMA – R$ 35 m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48" name=""/>
          <p:cNvGraphicFramePr/>
          <p:nvPr/>
        </p:nvGraphicFramePr>
        <p:xfrm>
          <a:off x="463680" y="836640"/>
          <a:ext cx="8170560" cy="4968720"/>
        </p:xfrm>
        <a:graphic>
          <a:graphicData uri="http://schemas.openxmlformats.org/drawingml/2006/table">
            <a:tbl>
              <a:tblPr/>
              <a:tblGrid>
                <a:gridCol w="574560"/>
                <a:gridCol w="7596000"/>
              </a:tblGrid>
              <a:tr h="528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t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os Centros Comunitári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20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Realização de Eventos Pelo COM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Assistência Social, Mulher e Famí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samento Coletiv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Atendimento a Mul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6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Atendimento a Família e Promoção So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ficinas de Convivência e Fortalecimento de Víncul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Mão Amiga - Resgate da Dignida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Desenvolvimento Comunitá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20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entro de Treinamento Comunitá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1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- Centros de Convivência da Famí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s Centros Comunit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6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asa da Famí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1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Promoção de Políticas Públicas e Especi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0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Atendimento a Crianç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14"/>
          <p:cNvSpPr/>
          <p:nvPr/>
        </p:nvSpPr>
        <p:spPr>
          <a:xfrm>
            <a:off x="-1234080" y="85680"/>
            <a:ext cx="964332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ASSISTÊNCIA SOCIAL, MULHER E FAMÍLIA – R$ 35 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"/>
          <p:cNvGrpSpPr/>
          <p:nvPr/>
        </p:nvGrpSpPr>
        <p:grpSpPr>
          <a:xfrm>
            <a:off x="324000" y="73080"/>
            <a:ext cx="8348400" cy="590400"/>
            <a:chOff x="324000" y="73080"/>
            <a:chExt cx="8348400" cy="590400"/>
          </a:xfrm>
        </p:grpSpPr>
        <p:sp>
          <p:nvSpPr>
            <p:cNvPr id="451" name="AutoShape 2"/>
            <p:cNvSpPr/>
            <p:nvPr/>
          </p:nvSpPr>
          <p:spPr>
            <a:xfrm>
              <a:off x="324000" y="73080"/>
              <a:ext cx="8348400" cy="59040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3"/>
            <p:cNvSpPr/>
            <p:nvPr/>
          </p:nvSpPr>
          <p:spPr>
            <a:xfrm>
              <a:off x="361800" y="101520"/>
              <a:ext cx="8272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Calibri"/>
                </a:rPr>
                <a:t>ASSISTÊNCIA SOCIAL, MULHER E FAMÍLIA - SMA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611280" y="1616040"/>
          <a:ext cx="8348400" cy="3181320"/>
        </p:xfrm>
        <a:graphic>
          <a:graphicData uri="http://schemas.openxmlformats.org/drawingml/2006/table">
            <a:tbl>
              <a:tblPr/>
              <a:tblGrid>
                <a:gridCol w="900000"/>
                <a:gridCol w="7448400"/>
              </a:tblGrid>
              <a:tr h="298080">
                <a:tc gridSpan="2"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16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tenção das Atividades do Conselho Tutel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9608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tenção das Atividades do Conselho Municipal da Criança e do Adolesce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52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tenção das Atividades do Programa Abraç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808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tenção das Atividades de Atendimento a Pessoas com Deficiên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808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tenção das Atividades Voltadas a Juventu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16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tenção das Atividades de Promoção de Igualdade Ra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808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tenção das Atividades dos Projetos Ecumênic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16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tenção Administrativa e Financeira da S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920">
                <a:tc>
                  <a:txBody>
                    <a:bodyPr lIns="9000" rIns="9000" tIns="900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nutenção Predial e Gestão de Frotas da S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357120" y="779400"/>
            <a:ext cx="1197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FANT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55640" y="1282680"/>
          <a:ext cx="6667560" cy="4813200"/>
        </p:xfrm>
        <a:graphic>
          <a:graphicData uri="http://schemas.openxmlformats.org/drawingml/2006/table">
            <a:tbl>
              <a:tblPr/>
              <a:tblGrid>
                <a:gridCol w="54000"/>
                <a:gridCol w="539640"/>
                <a:gridCol w="6073920"/>
              </a:tblGrid>
              <a:tr h="2998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os Núcleos de Ed.Infanti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o Nei Ariribá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e Aquisição de Parques Infantis para os NEI'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cuperação e Melhorias das Unidades Escolares (NEI'S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ansformação Digital e Inovação Tecnológica - Ensino Infanti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s Crech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.Infantil - Crech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Pedagógica - Professores Crech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Vouchers Escolar - Crech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Crech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ré-esc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.Infantil - Pré-esc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Pedagógica - Professores da Pré-esc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Pré-esc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56" name="AutoShape 113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14"/>
          <p:cNvSpPr/>
          <p:nvPr/>
        </p:nvSpPr>
        <p:spPr>
          <a:xfrm>
            <a:off x="2351880" y="139680"/>
            <a:ext cx="2879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EDUCAÇÃO 470.1 m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357120" y="779400"/>
            <a:ext cx="1197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FANT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755640" y="1282680"/>
          <a:ext cx="6667560" cy="1803600"/>
        </p:xfrm>
        <a:graphic>
          <a:graphicData uri="http://schemas.openxmlformats.org/drawingml/2006/table">
            <a:tbl>
              <a:tblPr/>
              <a:tblGrid>
                <a:gridCol w="54000"/>
                <a:gridCol w="539640"/>
                <a:gridCol w="6073920"/>
              </a:tblGrid>
              <a:tr h="2998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tão Escola Forte - Infant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- Crech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– Pré-Esc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Leite Amigo Pão - Crech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Leite Amigo Pão – Pré-Esc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60" name="AutoShape 113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14"/>
          <p:cNvSpPr/>
          <p:nvPr/>
        </p:nvSpPr>
        <p:spPr>
          <a:xfrm>
            <a:off x="3065760" y="115920"/>
            <a:ext cx="17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EDUCAÇÃO</a:t>
            </a:r>
            <a:r>
              <a:rPr b="1" lang="pt-BR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357120" y="766800"/>
            <a:ext cx="2016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357120" y="1268280"/>
          <a:ext cx="7388280" cy="4570560"/>
        </p:xfrm>
        <a:graphic>
          <a:graphicData uri="http://schemas.openxmlformats.org/drawingml/2006/table">
            <a:tbl>
              <a:tblPr/>
              <a:tblGrid>
                <a:gridCol w="54000"/>
                <a:gridCol w="598680"/>
                <a:gridCol w="6735600"/>
              </a:tblGrid>
              <a:tr h="327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as Unidades Escolares (CEM'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construção e Implantação do CI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e Aquisição de Parques Infantis para os CEM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e Quadras Escola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cuperação e Melhorias das Unidades Escolares (CEM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Ensino Fundam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nsino Fundam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- Ensino Fundam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Continuada e em Atividade - Ensino Fundam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Vouchers Escolar - Fundam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Materiais Pedagógicos Fundam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a Escola Cívico Militar - SEDU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64" name="AutoShape 106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07"/>
          <p:cNvSpPr/>
          <p:nvPr/>
        </p:nvSpPr>
        <p:spPr>
          <a:xfrm>
            <a:off x="2921760" y="2052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EDUCAÇÃO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1547640" y="2142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606600" y="1671480"/>
            <a:ext cx="792468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dinária de iniciativa do Poder Executiv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laborado em harmonia com o PP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Validade para o exercício financeiro seguinte ao da sua elaboraçã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 a formulação da LOA do exercício seguint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3"/>
          <p:cNvSpPr/>
          <p:nvPr/>
        </p:nvSpPr>
        <p:spPr>
          <a:xfrm>
            <a:off x="7164360" y="5589720"/>
            <a:ext cx="1368360" cy="3603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357120" y="766800"/>
            <a:ext cx="2016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357120" y="1268280"/>
          <a:ext cx="7388280" cy="2611440"/>
        </p:xfrm>
        <a:graphic>
          <a:graphicData uri="http://schemas.openxmlformats.org/drawingml/2006/table">
            <a:tbl>
              <a:tblPr/>
              <a:tblGrid>
                <a:gridCol w="54000"/>
                <a:gridCol w="598680"/>
                <a:gridCol w="6735600"/>
              </a:tblGrid>
              <a:tr h="327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- Fundam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ansformação Digital e Inovação Tecnológica - Ensino Fundam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Planeta Escola - SEDU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lantar - Hortas Pedagógicas - SEDU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tão Escola Forte - Fundame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cola Aberta - SEDU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átria Na Esc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68" name="AutoShape 106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07"/>
          <p:cNvSpPr/>
          <p:nvPr/>
        </p:nvSpPr>
        <p:spPr>
          <a:xfrm>
            <a:off x="2921760" y="111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EDUCAÇÃO</a:t>
            </a: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336600" y="736560"/>
            <a:ext cx="24544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OVENS E ADU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"/>
          <p:cNvSpPr/>
          <p:nvPr/>
        </p:nvSpPr>
        <p:spPr>
          <a:xfrm>
            <a:off x="336960" y="2660760"/>
            <a:ext cx="12978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PE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57120" y="5235480"/>
            <a:ext cx="9306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39840" y="5710320"/>
          <a:ext cx="6664320" cy="473040"/>
        </p:xfrm>
        <a:graphic>
          <a:graphicData uri="http://schemas.openxmlformats.org/drawingml/2006/table">
            <a:tbl>
              <a:tblPr/>
              <a:tblGrid>
                <a:gridCol w="54000"/>
                <a:gridCol w="538200"/>
                <a:gridCol w="6072120"/>
              </a:tblGrid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Ensino Médi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336600" y="1147680"/>
          <a:ext cx="6740640" cy="1344600"/>
        </p:xfrm>
        <a:graphic>
          <a:graphicData uri="http://schemas.openxmlformats.org/drawingml/2006/table">
            <a:tbl>
              <a:tblPr/>
              <a:tblGrid>
                <a:gridCol w="54000"/>
                <a:gridCol w="544320"/>
                <a:gridCol w="6142320"/>
              </a:tblGrid>
              <a:tr h="270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EJ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0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o CE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tão Escola Forte - CE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9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- CE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334800" y="3006720"/>
          <a:ext cx="6666120" cy="2251080"/>
        </p:xfrm>
        <a:graphic>
          <a:graphicData uri="http://schemas.openxmlformats.org/drawingml/2006/table">
            <a:tbl>
              <a:tblPr/>
              <a:tblGrid>
                <a:gridCol w="54000"/>
                <a:gridCol w="540000"/>
                <a:gridCol w="6072120"/>
              </a:tblGrid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Educação Especial - Fundamen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Educação Especial - Infant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5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olo de Altas Habilidades E Superdot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Continuada Docentes Ed. Especial - Fundam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Continuada Docentes Ed. Especial - Infant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nsino Espe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- Ed. Espe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76" name="AutoShape 100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01"/>
          <p:cNvSpPr/>
          <p:nvPr/>
        </p:nvSpPr>
        <p:spPr>
          <a:xfrm>
            <a:off x="2914200" y="138240"/>
            <a:ext cx="1675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EDUCA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1"/>
          <p:cNvGrpSpPr/>
          <p:nvPr/>
        </p:nvGrpSpPr>
        <p:grpSpPr>
          <a:xfrm>
            <a:off x="338040" y="82440"/>
            <a:ext cx="7979040" cy="591840"/>
            <a:chOff x="338040" y="82440"/>
            <a:chExt cx="7979040" cy="591840"/>
          </a:xfrm>
        </p:grpSpPr>
        <p:sp>
          <p:nvSpPr>
            <p:cNvPr id="479" name="AutoShape 2"/>
            <p:cNvSpPr/>
            <p:nvPr/>
          </p:nvSpPr>
          <p:spPr>
            <a:xfrm>
              <a:off x="338040" y="82440"/>
              <a:ext cx="7979040" cy="5918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Rectangle 3"/>
            <p:cNvSpPr/>
            <p:nvPr/>
          </p:nvSpPr>
          <p:spPr>
            <a:xfrm>
              <a:off x="393120" y="111960"/>
              <a:ext cx="79236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EDUCAÇÃO</a:t>
              </a: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4"/>
          <p:cNvSpPr/>
          <p:nvPr/>
        </p:nvSpPr>
        <p:spPr>
          <a:xfrm>
            <a:off x="488880" y="824040"/>
            <a:ext cx="19576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ATU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452160" y="3789360"/>
            <a:ext cx="37742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UTENÇÃO DA SECRETA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53960" y="1341360"/>
          <a:ext cx="6539040" cy="2160720"/>
        </p:xfrm>
        <a:graphic>
          <a:graphicData uri="http://schemas.openxmlformats.org/drawingml/2006/table">
            <a:tbl>
              <a:tblPr/>
              <a:tblGrid>
                <a:gridCol w="54000"/>
                <a:gridCol w="528840"/>
                <a:gridCol w="5956200"/>
              </a:tblGrid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 de Educação Multi Mak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ContraTurno Escolar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o ContraTurno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53960" y="4221000"/>
          <a:ext cx="6539040" cy="1295640"/>
        </p:xfrm>
        <a:graphic>
          <a:graphicData uri="http://schemas.openxmlformats.org/drawingml/2006/table">
            <a:tbl>
              <a:tblPr/>
              <a:tblGrid>
                <a:gridCol w="54000"/>
                <a:gridCol w="528840"/>
                <a:gridCol w="5956200"/>
              </a:tblGrid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SEDU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rganização de Fóruns, Eventos e Cerimoniais - SEDU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1"/>
          <p:cNvGrpSpPr/>
          <p:nvPr/>
        </p:nvGrpSpPr>
        <p:grpSpPr>
          <a:xfrm>
            <a:off x="468360" y="115920"/>
            <a:ext cx="8204040" cy="600120"/>
            <a:chOff x="468360" y="115920"/>
            <a:chExt cx="8204040" cy="600120"/>
          </a:xfrm>
        </p:grpSpPr>
        <p:sp>
          <p:nvSpPr>
            <p:cNvPr id="486" name="AutoShape 2"/>
            <p:cNvSpPr/>
            <p:nvPr/>
          </p:nvSpPr>
          <p:spPr>
            <a:xfrm>
              <a:off x="468360" y="115920"/>
              <a:ext cx="8204040" cy="6001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3"/>
            <p:cNvSpPr/>
            <p:nvPr/>
          </p:nvSpPr>
          <p:spPr>
            <a:xfrm>
              <a:off x="500040" y="146160"/>
              <a:ext cx="81406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PESSOA IDOSA – 10.6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8" name=""/>
          <p:cNvGraphicFramePr/>
          <p:nvPr/>
        </p:nvGraphicFramePr>
        <p:xfrm>
          <a:off x="611280" y="907920"/>
          <a:ext cx="6537240" cy="3657600"/>
        </p:xfrm>
        <a:graphic>
          <a:graphicData uri="http://schemas.openxmlformats.org/drawingml/2006/table">
            <a:tbl>
              <a:tblPr/>
              <a:tblGrid>
                <a:gridCol w="54000"/>
                <a:gridCol w="527040"/>
                <a:gridCol w="5956200"/>
              </a:tblGrid>
              <a:tr h="3398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Veículos Diversos para SP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8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o Centro Dia da Pessoa Ido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rceria com Lar São Vicente De Pau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edenciamentos para Atender Ordens Judiciais (SP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1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entro Dia da Pessoa Ido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5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Atendimento para Pessoas Idos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Municipal da Pessoa Ido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SP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1"/>
          <p:cNvGrpSpPr/>
          <p:nvPr/>
        </p:nvGrpSpPr>
        <p:grpSpPr>
          <a:xfrm>
            <a:off x="250920" y="85680"/>
            <a:ext cx="8464320" cy="600120"/>
            <a:chOff x="250920" y="85680"/>
            <a:chExt cx="8464320" cy="600120"/>
          </a:xfrm>
        </p:grpSpPr>
        <p:sp>
          <p:nvSpPr>
            <p:cNvPr id="490" name="AutoShape 2"/>
            <p:cNvSpPr/>
            <p:nvPr/>
          </p:nvSpPr>
          <p:spPr>
            <a:xfrm>
              <a:off x="436680" y="85680"/>
              <a:ext cx="8278560" cy="6001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3"/>
            <p:cNvSpPr/>
            <p:nvPr/>
          </p:nvSpPr>
          <p:spPr>
            <a:xfrm>
              <a:off x="250920" y="146160"/>
              <a:ext cx="84628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Calibri"/>
                </a:rPr>
                <a:t>PLANEJAMENTO E DESENV. URBANO – R$ 97.3 m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2" name=""/>
          <p:cNvGraphicFramePr/>
          <p:nvPr/>
        </p:nvGraphicFramePr>
        <p:xfrm>
          <a:off x="826920" y="981000"/>
          <a:ext cx="7145640" cy="4753080"/>
        </p:xfrm>
        <a:graphic>
          <a:graphicData uri="http://schemas.openxmlformats.org/drawingml/2006/table">
            <a:tbl>
              <a:tblPr/>
              <a:tblGrid>
                <a:gridCol w="54000"/>
                <a:gridCol w="578160"/>
                <a:gridCol w="6513480"/>
              </a:tblGrid>
              <a:tr h="3650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longamento Av. Prefeito Meirinho Trecho I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rque Linear do Canal do Maramba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longamento Av. Martin Luther Trecho II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, Prolongamento e Abertura de Avenidas e Bin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6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da Rede de Iluminação Públ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baixamento da Rede de Iluminação Públ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6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nidades Habitacion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urbanização Etapa Barra Sul - Rua 3920 até Barra S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urbanização Etapa Sul - Rua 3300 até 39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urbanização Etapa Barra Norte - Rua 1501 até Barra Nor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6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dificações Provisórias Orla 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5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crodrenagem da Orla Centr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1"/>
          <p:cNvGrpSpPr/>
          <p:nvPr/>
        </p:nvGrpSpPr>
        <p:grpSpPr>
          <a:xfrm>
            <a:off x="250920" y="115920"/>
            <a:ext cx="8494560" cy="600120"/>
            <a:chOff x="250920" y="115920"/>
            <a:chExt cx="8494560" cy="600120"/>
          </a:xfrm>
        </p:grpSpPr>
        <p:sp>
          <p:nvSpPr>
            <p:cNvPr id="494" name="AutoShape 2"/>
            <p:cNvSpPr/>
            <p:nvPr/>
          </p:nvSpPr>
          <p:spPr>
            <a:xfrm>
              <a:off x="466560" y="115920"/>
              <a:ext cx="8278920" cy="6001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3"/>
            <p:cNvSpPr/>
            <p:nvPr/>
          </p:nvSpPr>
          <p:spPr>
            <a:xfrm>
              <a:off x="250920" y="146160"/>
              <a:ext cx="84628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Calibri"/>
                </a:rPr>
                <a:t>PLANEJAMENTO E DESENV. URBANO – R$ 89.7 m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826920" y="981000"/>
          <a:ext cx="7093080" cy="4680000"/>
        </p:xfrm>
        <a:graphic>
          <a:graphicData uri="http://schemas.openxmlformats.org/drawingml/2006/table">
            <a:tbl>
              <a:tblPr/>
              <a:tblGrid>
                <a:gridCol w="54000"/>
                <a:gridCol w="573120"/>
                <a:gridCol w="6465960"/>
              </a:tblGrid>
              <a:tr h="3747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 PROMOBIS - Contrato de Rateio CIM-AMFR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s e Manutenção da Secretaria - SPU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2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Desenvolvimento do FM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2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s em Unidades Habitacion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gularização Fundiária - FURB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URB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2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jeto Pós-mor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cessão de Auxílio Moradia aos Benefici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usteio dos Serviços Administrativos de Iluminação Públ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2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a Rede de Iluminação Públ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66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de Urbanização, Regularização e Integração de Assentamentos Prec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1"/>
          <p:cNvGrpSpPr/>
          <p:nvPr/>
        </p:nvGrpSpPr>
        <p:grpSpPr>
          <a:xfrm>
            <a:off x="436680" y="115920"/>
            <a:ext cx="8235720" cy="861840"/>
            <a:chOff x="436680" y="115920"/>
            <a:chExt cx="8235720" cy="861840"/>
          </a:xfrm>
        </p:grpSpPr>
        <p:sp>
          <p:nvSpPr>
            <p:cNvPr id="498" name="AutoShape 2"/>
            <p:cNvSpPr/>
            <p:nvPr/>
          </p:nvSpPr>
          <p:spPr>
            <a:xfrm>
              <a:off x="436680" y="115920"/>
              <a:ext cx="8235720" cy="8618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3"/>
            <p:cNvSpPr/>
            <p:nvPr/>
          </p:nvSpPr>
          <p:spPr>
            <a:xfrm>
              <a:off x="766800" y="158760"/>
              <a:ext cx="75880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Calibri"/>
                </a:rPr>
                <a:t>MEIO AMBIENTE E DESENV. ECONÔMICO - R$ 12 m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Text Box 4"/>
          <p:cNvSpPr/>
          <p:nvPr/>
        </p:nvSpPr>
        <p:spPr>
          <a:xfrm>
            <a:off x="653760" y="3557520"/>
            <a:ext cx="13100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649440" y="1089000"/>
            <a:ext cx="17046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CRETA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649440" y="4076640"/>
          <a:ext cx="6535440" cy="1530360"/>
        </p:xfrm>
        <a:graphic>
          <a:graphicData uri="http://schemas.openxmlformats.org/drawingml/2006/table">
            <a:tbl>
              <a:tblPr/>
              <a:tblGrid>
                <a:gridCol w="54000"/>
                <a:gridCol w="527040"/>
                <a:gridCol w="5954400"/>
              </a:tblGrid>
              <a:tr h="5047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a Sede Administrativa do FUNDE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2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o Parque Raimundo Mal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3" name=""/>
          <p:cNvGraphicFramePr/>
          <p:nvPr/>
        </p:nvGraphicFramePr>
        <p:xfrm>
          <a:off x="649440" y="1609560"/>
          <a:ext cx="6535440" cy="1746360"/>
        </p:xfrm>
        <a:graphic>
          <a:graphicData uri="http://schemas.openxmlformats.org/drawingml/2006/table">
            <a:tbl>
              <a:tblPr/>
              <a:tblGrid>
                <a:gridCol w="581040"/>
                <a:gridCol w="5954400"/>
              </a:tblGrid>
              <a:tr h="505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Desenvolvimento Econômico e Empreendedorism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Cidade Empreendedora - Parceri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Pessoal - SEMA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 Mulher Empreendedora - Capacitação e Protagonis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5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Municipal de Amparo aos Animais - FA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4"/>
          <p:cNvSpPr/>
          <p:nvPr/>
        </p:nvSpPr>
        <p:spPr>
          <a:xfrm>
            <a:off x="617400" y="404640"/>
            <a:ext cx="13100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01560" y="981000"/>
          <a:ext cx="6850080" cy="2662200"/>
        </p:xfrm>
        <a:graphic>
          <a:graphicData uri="http://schemas.openxmlformats.org/drawingml/2006/table">
            <a:tbl>
              <a:tblPr/>
              <a:tblGrid>
                <a:gridCol w="609840"/>
                <a:gridCol w="6240240"/>
              </a:tblGrid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servação e Ampliação do Selo Internacional “Bandeira Azul”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NDEM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Fiscalização Ambi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5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toterapia e Viveiro Mata Atlânti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607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stentabilidade Ambiental e Desenvolvimento de Produtos e Serviç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Terra Lim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arque Raimundo Mal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Proteção e Bem Estar Anim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1"/>
          <p:cNvGrpSpPr/>
          <p:nvPr/>
        </p:nvGrpSpPr>
        <p:grpSpPr>
          <a:xfrm>
            <a:off x="468360" y="115920"/>
            <a:ext cx="8244000" cy="838080"/>
            <a:chOff x="468360" y="115920"/>
            <a:chExt cx="8244000" cy="838080"/>
          </a:xfrm>
        </p:grpSpPr>
        <p:sp>
          <p:nvSpPr>
            <p:cNvPr id="507" name="AutoShape 2"/>
            <p:cNvSpPr/>
            <p:nvPr/>
          </p:nvSpPr>
          <p:spPr>
            <a:xfrm>
              <a:off x="468360" y="115920"/>
              <a:ext cx="824400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3"/>
            <p:cNvSpPr/>
            <p:nvPr/>
          </p:nvSpPr>
          <p:spPr>
            <a:xfrm>
              <a:off x="500040" y="157320"/>
              <a:ext cx="81802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SECRETARIA DE OBRAS – R$ 109.9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9" name=""/>
          <p:cNvGraphicFramePr/>
          <p:nvPr/>
        </p:nvGraphicFramePr>
        <p:xfrm>
          <a:off x="611280" y="995400"/>
          <a:ext cx="7791480" cy="5170320"/>
        </p:xfrm>
        <a:graphic>
          <a:graphicData uri="http://schemas.openxmlformats.org/drawingml/2006/table">
            <a:tbl>
              <a:tblPr/>
              <a:tblGrid>
                <a:gridCol w="54000"/>
                <a:gridCol w="630000"/>
                <a:gridCol w="7107480"/>
              </a:tblGrid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Parques para Cães - DOGPAR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urbanização de Praças e Calçadas em Áreas Públic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vimentação e Reurbanização de Vias Urba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xpansão de Galerias Entre Municípios BC e Cambori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Novos Canteir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Pontos de Ônibu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a Secretaria Municipal de Ob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o Setor de Paisagis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 Arborização Urba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Máquinas, Veículos e Equipamentos Manuais para SEMO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dministrativo e Logístico ao Funcionamento da SEMO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5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Sistema de Drenagem, Execução de Bueiros e Galerias Pluvi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ão Tapa Buraco - Manutenção de Vias Urba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Praças, Parques, Pontos de Ônibus e Afin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Equipamentos e Mobiliários Urban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ocação de Máquinas e Veículos P/ Serviços Urban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Limpeza e Conservação da Cida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arte de Resíduos Sólidos dos Serviços Públic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1"/>
          <p:cNvGrpSpPr/>
          <p:nvPr/>
        </p:nvGrpSpPr>
        <p:grpSpPr>
          <a:xfrm>
            <a:off x="395280" y="100080"/>
            <a:ext cx="8205840" cy="838080"/>
            <a:chOff x="395280" y="100080"/>
            <a:chExt cx="8205840" cy="838080"/>
          </a:xfrm>
        </p:grpSpPr>
        <p:sp>
          <p:nvSpPr>
            <p:cNvPr id="511" name="AutoShape 2"/>
            <p:cNvSpPr/>
            <p:nvPr/>
          </p:nvSpPr>
          <p:spPr>
            <a:xfrm>
              <a:off x="395280" y="100080"/>
              <a:ext cx="820584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3"/>
            <p:cNvSpPr/>
            <p:nvPr/>
          </p:nvSpPr>
          <p:spPr>
            <a:xfrm>
              <a:off x="426960" y="141120"/>
              <a:ext cx="81424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SEGURANÇA E ORDEM PÚBLICA – 48.5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3" name=""/>
          <p:cNvGraphicFramePr/>
          <p:nvPr/>
        </p:nvGraphicFramePr>
        <p:xfrm>
          <a:off x="455760" y="1123920"/>
          <a:ext cx="7650000" cy="4578480"/>
        </p:xfrm>
        <a:graphic>
          <a:graphicData uri="http://schemas.openxmlformats.org/drawingml/2006/table">
            <a:tbl>
              <a:tblPr/>
              <a:tblGrid>
                <a:gridCol w="54000"/>
                <a:gridCol w="618840"/>
                <a:gridCol w="6977160"/>
              </a:tblGrid>
              <a:tr h="5079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9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dministrativo e Gestão da SESE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4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 Atividades da Guarda Municip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3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 Atividades da Escola Cívico da Guarda Municip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4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Gestão da Guarda Patrimon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4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ntral de Operações da SESE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5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o Departamento de Contenção Irregular e Degradação Ambiental - DCO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4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partamento de Proteção Anim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35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Gestão da Defesa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4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Gestão da Radiopatrulha - PMS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35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Gestão do Fundo de Proteção e Defesa Civi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608040" y="846000"/>
            <a:ext cx="7926480" cy="53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Dispõe sobre as seguintes matérias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etas e prioridades da administração para o exercício financeiro subsequent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lterações na legislação tributár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utorização para concessão de qualquer vantagem ou aumento na remuneração de servidor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iação de cargos, empregos, funções ou alteração na estrutura de carreir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dmissão e contratação de pessoal a qualquer título para a administração municip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equilíbrio entre receitas e despes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ritérios e formas de limitação de empenh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ndições e exigências para transferências de recursos a entidades públicas e privada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nexos de Metas e Riscos Fisc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609480" y="27468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1"/>
          <p:cNvGrpSpPr/>
          <p:nvPr/>
        </p:nvGrpSpPr>
        <p:grpSpPr>
          <a:xfrm>
            <a:off x="330120" y="115920"/>
            <a:ext cx="8415360" cy="790560"/>
            <a:chOff x="330120" y="115920"/>
            <a:chExt cx="8415360" cy="790560"/>
          </a:xfrm>
        </p:grpSpPr>
        <p:sp>
          <p:nvSpPr>
            <p:cNvPr id="515" name="AutoShape 2"/>
            <p:cNvSpPr/>
            <p:nvPr/>
          </p:nvSpPr>
          <p:spPr>
            <a:xfrm>
              <a:off x="330120" y="115920"/>
              <a:ext cx="8415360" cy="79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3"/>
            <p:cNvSpPr/>
            <p:nvPr/>
          </p:nvSpPr>
          <p:spPr>
            <a:xfrm>
              <a:off x="363600" y="155520"/>
              <a:ext cx="834876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TURISMO – R$ 38.7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Text Box 4"/>
          <p:cNvSpPr/>
          <p:nvPr/>
        </p:nvSpPr>
        <p:spPr>
          <a:xfrm>
            <a:off x="320760" y="1035000"/>
            <a:ext cx="16408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330480" y="2224080"/>
            <a:ext cx="11455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M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63600" y="2732040"/>
          <a:ext cx="6732360" cy="2613240"/>
        </p:xfrm>
        <a:graphic>
          <a:graphicData uri="http://schemas.openxmlformats.org/drawingml/2006/table">
            <a:tbl>
              <a:tblPr/>
              <a:tblGrid>
                <a:gridCol w="52200"/>
                <a:gridCol w="544680"/>
                <a:gridCol w="6135480"/>
              </a:tblGrid>
              <a:tr h="2566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MT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6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Equipamentos Públicos Turístic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47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rticipação no Consórcio de Turismo Costa Verde e Mar - CITM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47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dução de Festividades Turísticas e Participação em Eventos Turístic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6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dução das Festividades do Final de Ano - Natal e Réveillo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6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moção da Comunicação Turíst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47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Balneário Camboriú com Vida Convention e Visitors Bureau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320760" y="1533600"/>
          <a:ext cx="6659640" cy="520560"/>
        </p:xfrm>
        <a:graphic>
          <a:graphicData uri="http://schemas.openxmlformats.org/drawingml/2006/table">
            <a:tbl>
              <a:tblPr/>
              <a:tblGrid>
                <a:gridCol w="52200"/>
                <a:gridCol w="538200"/>
                <a:gridCol w="6069240"/>
              </a:tblGrid>
              <a:tr h="2638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Pessoal da Secretaria de Turis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1"/>
          <p:cNvGrpSpPr/>
          <p:nvPr/>
        </p:nvGrpSpPr>
        <p:grpSpPr>
          <a:xfrm>
            <a:off x="330120" y="115920"/>
            <a:ext cx="8415360" cy="790560"/>
            <a:chOff x="330120" y="115920"/>
            <a:chExt cx="8415360" cy="790560"/>
          </a:xfrm>
        </p:grpSpPr>
        <p:sp>
          <p:nvSpPr>
            <p:cNvPr id="522" name="AutoShape 2"/>
            <p:cNvSpPr/>
            <p:nvPr/>
          </p:nvSpPr>
          <p:spPr>
            <a:xfrm>
              <a:off x="330120" y="115920"/>
              <a:ext cx="8415360" cy="79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3"/>
            <p:cNvSpPr/>
            <p:nvPr/>
          </p:nvSpPr>
          <p:spPr>
            <a:xfrm>
              <a:off x="363600" y="155520"/>
              <a:ext cx="834876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SUBPREFEITURA DA REGIÃO SUL – R$ 2.2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324000" y="3397320"/>
          <a:ext cx="6732360" cy="2084400"/>
        </p:xfrm>
        <a:graphic>
          <a:graphicData uri="http://schemas.openxmlformats.org/drawingml/2006/table">
            <a:tbl>
              <a:tblPr/>
              <a:tblGrid>
                <a:gridCol w="52200"/>
                <a:gridCol w="544680"/>
                <a:gridCol w="6135480"/>
              </a:tblGrid>
              <a:tr h="3452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no Cemitério Municipal Da Região Sul - B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6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emitério Municipal da Região Sul - B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47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9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 Sementeira Reativação da Horta da Colônia de Pescadores da Região Sul - B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34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Administrativa Da Subprefeitura Região Sul - 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372960" y="1036800"/>
          <a:ext cx="6732720" cy="2253960"/>
        </p:xfrm>
        <a:graphic>
          <a:graphicData uri="http://schemas.openxmlformats.org/drawingml/2006/table">
            <a:tbl>
              <a:tblPr/>
              <a:tblGrid>
                <a:gridCol w="52560"/>
                <a:gridCol w="544320"/>
                <a:gridCol w="6135840"/>
              </a:tblGrid>
              <a:tr h="3675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a Subprefeitura de Obras da Região Sul - B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iação de Escola do Mar Na Região Sul - B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47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Instrumentos para Escola de Música da Região Sul - B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Academia ao Ar Livre na Região Sul - 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47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iação de Espaços de Convivência Socioculturais da Região Sul - 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"/>
          <p:cNvGrpSpPr/>
          <p:nvPr/>
        </p:nvGrpSpPr>
        <p:grpSpPr>
          <a:xfrm>
            <a:off x="395280" y="115920"/>
            <a:ext cx="8277120" cy="838080"/>
            <a:chOff x="395280" y="115920"/>
            <a:chExt cx="8277120" cy="838080"/>
          </a:xfrm>
        </p:grpSpPr>
        <p:sp>
          <p:nvSpPr>
            <p:cNvPr id="527" name="AutoShape 2"/>
            <p:cNvSpPr/>
            <p:nvPr/>
          </p:nvSpPr>
          <p:spPr>
            <a:xfrm>
              <a:off x="395280" y="115920"/>
              <a:ext cx="827712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Rectangle 3"/>
            <p:cNvSpPr/>
            <p:nvPr/>
          </p:nvSpPr>
          <p:spPr>
            <a:xfrm>
              <a:off x="426960" y="157320"/>
              <a:ext cx="82137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ASSISTÊNCIA SOCIAL – R$ 11.8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29" name=""/>
          <p:cNvGraphicFramePr/>
          <p:nvPr/>
        </p:nvGraphicFramePr>
        <p:xfrm>
          <a:off x="426960" y="1052640"/>
          <a:ext cx="8213760" cy="4835520"/>
        </p:xfrm>
        <a:graphic>
          <a:graphicData uri="http://schemas.openxmlformats.org/drawingml/2006/table">
            <a:tbl>
              <a:tblPr/>
              <a:tblGrid>
                <a:gridCol w="60480"/>
                <a:gridCol w="664920"/>
                <a:gridCol w="7488360"/>
              </a:tblGrid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- Casa de Passagem Do Migra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- Lar da Criança e do Adolescen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5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teção Social Especial Casa de Passagem para Famílias - Construção e Instal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e Equipamentos de Aten. Proteção Social Básica - C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onselho Municipal de Assistência Social - CM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Proteção Social Bás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Proteção Social Espe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cessão de Benefícios Event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Gestão do Suas- IG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5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Gestão do IGD - Programa Bolsa Família e Cadastro Ún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Benefícios de Acolhimento Famili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Vigilância Socioassistencial e Monitoramen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lização de Parcerias Com OSC'S Proteção Social Bás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7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lização de Parcerias Com OSC'S Proteção Social Espe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Group 1"/>
          <p:cNvGrpSpPr/>
          <p:nvPr/>
        </p:nvGrpSpPr>
        <p:grpSpPr>
          <a:xfrm>
            <a:off x="468360" y="115920"/>
            <a:ext cx="8204040" cy="838080"/>
            <a:chOff x="468360" y="115920"/>
            <a:chExt cx="8204040" cy="838080"/>
          </a:xfrm>
        </p:grpSpPr>
        <p:sp>
          <p:nvSpPr>
            <p:cNvPr id="531" name="AutoShape 2"/>
            <p:cNvSpPr/>
            <p:nvPr/>
          </p:nvSpPr>
          <p:spPr>
            <a:xfrm>
              <a:off x="468360" y="115920"/>
              <a:ext cx="820404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3"/>
            <p:cNvSpPr/>
            <p:nvPr/>
          </p:nvSpPr>
          <p:spPr>
            <a:xfrm>
              <a:off x="500040" y="157320"/>
              <a:ext cx="81406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CRIANÇA E ADOLESCENTE – R$ 13.5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33" name=""/>
          <p:cNvGraphicFramePr/>
          <p:nvPr/>
        </p:nvGraphicFramePr>
        <p:xfrm>
          <a:off x="539640" y="1628640"/>
          <a:ext cx="7275600" cy="2664000"/>
        </p:xfrm>
        <a:graphic>
          <a:graphicData uri="http://schemas.openxmlformats.org/drawingml/2006/table">
            <a:tbl>
              <a:tblPr/>
              <a:tblGrid>
                <a:gridCol w="52560"/>
                <a:gridCol w="587160"/>
                <a:gridCol w="6635880"/>
              </a:tblGrid>
              <a:tr h="5605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MDC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 das Atividades de Atenção à Criança e ao Adolescente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7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rcerias com OSC'S Voltadas ao Bem Estar da Criança e ao Adolesce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centivo à Guarda e Adoçã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1"/>
          <p:cNvGrpSpPr/>
          <p:nvPr/>
        </p:nvGrpSpPr>
        <p:grpSpPr>
          <a:xfrm>
            <a:off x="539640" y="115920"/>
            <a:ext cx="8174160" cy="838080"/>
            <a:chOff x="539640" y="115920"/>
            <a:chExt cx="8174160" cy="838080"/>
          </a:xfrm>
        </p:grpSpPr>
        <p:sp>
          <p:nvSpPr>
            <p:cNvPr id="535" name="AutoShape 2"/>
            <p:cNvSpPr/>
            <p:nvPr/>
          </p:nvSpPr>
          <p:spPr>
            <a:xfrm>
              <a:off x="539640" y="115920"/>
              <a:ext cx="81741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3"/>
            <p:cNvSpPr/>
            <p:nvPr/>
          </p:nvSpPr>
          <p:spPr>
            <a:xfrm>
              <a:off x="571680" y="157320"/>
              <a:ext cx="8110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FUNDO DE SAÚDE – R$ 315.2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7" name="Text Box 4"/>
          <p:cNvSpPr/>
          <p:nvPr/>
        </p:nvSpPr>
        <p:spPr>
          <a:xfrm>
            <a:off x="542880" y="1150920"/>
            <a:ext cx="2187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ÇÃO BÁS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539640" y="1716120"/>
          <a:ext cx="7277040" cy="2928960"/>
        </p:xfrm>
        <a:graphic>
          <a:graphicData uri="http://schemas.openxmlformats.org/drawingml/2006/table">
            <a:tbl>
              <a:tblPr/>
              <a:tblGrid>
                <a:gridCol w="54000"/>
                <a:gridCol w="588960"/>
                <a:gridCol w="6634080"/>
              </a:tblGrid>
              <a:tr h="30960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UBS São Judas Tadeu e Farmácia S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UBS Nações e Farmácia Nor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05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de Unidade Básica de Saú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de Saúde Buc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05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Básicos de Saú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Estratégias da Saúde Buc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05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e Rateio do Consórcio CIS-AMFR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05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Farmácia Municip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"/>
          <p:cNvSpPr/>
          <p:nvPr/>
        </p:nvSpPr>
        <p:spPr>
          <a:xfrm>
            <a:off x="142920" y="157320"/>
            <a:ext cx="8858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536"/>
              </a:spcAft>
              <a:tabLst>
                <a:tab algn="l" pos="0"/>
                <a:tab algn="l" pos="1554120"/>
                <a:tab algn="l" pos="3110040"/>
                <a:tab algn="l" pos="4665600"/>
                <a:tab algn="l" pos="6221520"/>
                <a:tab algn="l" pos="7777080"/>
                <a:tab algn="l" pos="9333000"/>
                <a:tab algn="l" pos="1088856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FUNDO SAÚDE – R$ mi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522360" y="1150920"/>
            <a:ext cx="36356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E ALTA COMPLEX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3"/>
          <p:cNvGrpSpPr/>
          <p:nvPr/>
        </p:nvGrpSpPr>
        <p:grpSpPr>
          <a:xfrm>
            <a:off x="539640" y="115920"/>
            <a:ext cx="8174160" cy="838080"/>
            <a:chOff x="539640" y="115920"/>
            <a:chExt cx="8174160" cy="838080"/>
          </a:xfrm>
        </p:grpSpPr>
        <p:sp>
          <p:nvSpPr>
            <p:cNvPr id="542" name="AutoShape 4"/>
            <p:cNvSpPr/>
            <p:nvPr/>
          </p:nvSpPr>
          <p:spPr>
            <a:xfrm>
              <a:off x="539640" y="115920"/>
              <a:ext cx="81741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Rectangle 5"/>
            <p:cNvSpPr/>
            <p:nvPr/>
          </p:nvSpPr>
          <p:spPr>
            <a:xfrm>
              <a:off x="571680" y="157320"/>
              <a:ext cx="8110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FUNDO DE SAÚDE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44" name=""/>
          <p:cNvGraphicFramePr/>
          <p:nvPr/>
        </p:nvGraphicFramePr>
        <p:xfrm>
          <a:off x="571680" y="1628640"/>
          <a:ext cx="8032680" cy="4245120"/>
        </p:xfrm>
        <a:graphic>
          <a:graphicData uri="http://schemas.openxmlformats.org/drawingml/2006/table">
            <a:tbl>
              <a:tblPr/>
              <a:tblGrid>
                <a:gridCol w="58680"/>
                <a:gridCol w="650880"/>
                <a:gridCol w="7323120"/>
              </a:tblGrid>
              <a:tr h="288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Complexo de Saú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a Policlín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de Unidade Especializadas de Saú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9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de UP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de CA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6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.de Regulação, Controle e Avaliação da Atenção à Saú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8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Especializados de Saú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entro de Atenção Psicossocial - CAP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Pronto Atendimento - U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tenças Judiciais - Internações, Tratamentos e Medicament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9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a Segurança Nutricional e Alimentar na Saú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frentamento em Situações de Emergência em Saúde Públ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1"/>
          <p:cNvSpPr/>
          <p:nvPr/>
        </p:nvSpPr>
        <p:spPr>
          <a:xfrm>
            <a:off x="554400" y="1155600"/>
            <a:ext cx="27853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ILÂNCIA EM SAÚ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6" name="Group 3"/>
          <p:cNvGrpSpPr/>
          <p:nvPr/>
        </p:nvGrpSpPr>
        <p:grpSpPr>
          <a:xfrm>
            <a:off x="539640" y="115920"/>
            <a:ext cx="8174160" cy="838080"/>
            <a:chOff x="539640" y="115920"/>
            <a:chExt cx="8174160" cy="838080"/>
          </a:xfrm>
        </p:grpSpPr>
        <p:sp>
          <p:nvSpPr>
            <p:cNvPr id="547" name="AutoShape 4"/>
            <p:cNvSpPr/>
            <p:nvPr/>
          </p:nvSpPr>
          <p:spPr>
            <a:xfrm>
              <a:off x="539640" y="115920"/>
              <a:ext cx="81741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Rectangle 5"/>
            <p:cNvSpPr/>
            <p:nvPr/>
          </p:nvSpPr>
          <p:spPr>
            <a:xfrm>
              <a:off x="571680" y="157320"/>
              <a:ext cx="8110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FUNDO DE SAÚDE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49" name=""/>
          <p:cNvGraphicFramePr/>
          <p:nvPr/>
        </p:nvGraphicFramePr>
        <p:xfrm>
          <a:off x="571680" y="1671480"/>
          <a:ext cx="6445080" cy="2095560"/>
        </p:xfrm>
        <a:graphic>
          <a:graphicData uri="http://schemas.openxmlformats.org/drawingml/2006/table">
            <a:tbl>
              <a:tblPr/>
              <a:tblGrid>
                <a:gridCol w="53640"/>
                <a:gridCol w="520920"/>
                <a:gridCol w="5870520"/>
              </a:tblGrid>
              <a:tr h="4194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Básicas de Vigilância Sanitári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9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Básicas de Vigilância Ambi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9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a Vigilância Epidemiológic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9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Sistema de Inspeção Municipal - SI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39640" y="4484520"/>
          <a:ext cx="6445440" cy="1676520"/>
        </p:xfrm>
        <a:graphic>
          <a:graphicData uri="http://schemas.openxmlformats.org/drawingml/2006/table">
            <a:tbl>
              <a:tblPr/>
              <a:tblGrid>
                <a:gridCol w="54000"/>
                <a:gridCol w="520920"/>
                <a:gridCol w="5870520"/>
              </a:tblGrid>
              <a:tr h="4194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às Atividades do COMU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9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os Serviços Públicos de Saú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9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- FM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51" name="Text Box 1"/>
          <p:cNvSpPr/>
          <p:nvPr/>
        </p:nvSpPr>
        <p:spPr>
          <a:xfrm>
            <a:off x="575640" y="4071960"/>
            <a:ext cx="1134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1"/>
          <p:cNvGrpSpPr/>
          <p:nvPr/>
        </p:nvGrpSpPr>
        <p:grpSpPr>
          <a:xfrm>
            <a:off x="539640" y="133200"/>
            <a:ext cx="8205840" cy="838440"/>
            <a:chOff x="539640" y="133200"/>
            <a:chExt cx="8205840" cy="838440"/>
          </a:xfrm>
        </p:grpSpPr>
        <p:sp>
          <p:nvSpPr>
            <p:cNvPr id="553" name="AutoShape 2"/>
            <p:cNvSpPr/>
            <p:nvPr/>
          </p:nvSpPr>
          <p:spPr>
            <a:xfrm>
              <a:off x="539640" y="133200"/>
              <a:ext cx="8205840" cy="8384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3"/>
            <p:cNvSpPr/>
            <p:nvPr/>
          </p:nvSpPr>
          <p:spPr>
            <a:xfrm>
              <a:off x="571680" y="174600"/>
              <a:ext cx="79689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CULTURA – FCBC – R$ 14.4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452520" y="1611360"/>
          <a:ext cx="8064360" cy="3749760"/>
        </p:xfrm>
        <a:graphic>
          <a:graphicData uri="http://schemas.openxmlformats.org/drawingml/2006/table">
            <a:tbl>
              <a:tblPr/>
              <a:tblGrid>
                <a:gridCol w="88920"/>
                <a:gridCol w="650880"/>
                <a:gridCol w="7324560"/>
              </a:tblGrid>
              <a:tr h="380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FCB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4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FCB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7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Culturais FCB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talecimento dos Eventos e Festas Cultur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talecimento da Lei De Incentivo à Cult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 Projetos e Convênios com Entidades de Caráter Cultu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Municipal de Animadores Culturais e Pontos de Cult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ítica Nacional Aldir Blan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"/>
          <p:cNvGrpSpPr/>
          <p:nvPr/>
        </p:nvGrpSpPr>
        <p:grpSpPr>
          <a:xfrm>
            <a:off x="468360" y="115920"/>
            <a:ext cx="8204040" cy="838080"/>
            <a:chOff x="468360" y="115920"/>
            <a:chExt cx="8204040" cy="838080"/>
          </a:xfrm>
        </p:grpSpPr>
        <p:sp>
          <p:nvSpPr>
            <p:cNvPr id="557" name="AutoShape 2"/>
            <p:cNvSpPr/>
            <p:nvPr/>
          </p:nvSpPr>
          <p:spPr>
            <a:xfrm>
              <a:off x="574560" y="115920"/>
              <a:ext cx="809784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3"/>
            <p:cNvSpPr/>
            <p:nvPr/>
          </p:nvSpPr>
          <p:spPr>
            <a:xfrm>
              <a:off x="468360" y="157320"/>
              <a:ext cx="803592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PROCON – R$ 3.2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59" name=""/>
          <p:cNvGraphicFramePr/>
          <p:nvPr/>
        </p:nvGraphicFramePr>
        <p:xfrm>
          <a:off x="627120" y="1197000"/>
          <a:ext cx="6334200" cy="3071880"/>
        </p:xfrm>
        <a:graphic>
          <a:graphicData uri="http://schemas.openxmlformats.org/drawingml/2006/table">
            <a:tbl>
              <a:tblPr/>
              <a:tblGrid>
                <a:gridCol w="52200"/>
                <a:gridCol w="511200"/>
                <a:gridCol w="5770800"/>
              </a:tblGrid>
              <a:tr h="5112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e Instalação da Sede Própria - PROC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12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stema de Processo Eletrônico - PROC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2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Defesa dos Direitos do Consumid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30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ização de Seminários e Congress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1"/>
          <p:cNvGrpSpPr/>
          <p:nvPr/>
        </p:nvGrpSpPr>
        <p:grpSpPr>
          <a:xfrm>
            <a:off x="468360" y="115920"/>
            <a:ext cx="8204040" cy="838080"/>
            <a:chOff x="468360" y="115920"/>
            <a:chExt cx="8204040" cy="838080"/>
          </a:xfrm>
        </p:grpSpPr>
        <p:sp>
          <p:nvSpPr>
            <p:cNvPr id="561" name="AutoShape 2"/>
            <p:cNvSpPr/>
            <p:nvPr/>
          </p:nvSpPr>
          <p:spPr>
            <a:xfrm>
              <a:off x="468360" y="115920"/>
              <a:ext cx="820404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Rectangle 3"/>
            <p:cNvSpPr/>
            <p:nvPr/>
          </p:nvSpPr>
          <p:spPr>
            <a:xfrm>
              <a:off x="500040" y="157320"/>
              <a:ext cx="81406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ESPORTE – FME – R$ 22.9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63" name=""/>
          <p:cNvGraphicFramePr/>
          <p:nvPr/>
        </p:nvGraphicFramePr>
        <p:xfrm>
          <a:off x="500040" y="1220760"/>
          <a:ext cx="7959600" cy="4800600"/>
        </p:xfrm>
        <a:graphic>
          <a:graphicData uri="http://schemas.openxmlformats.org/drawingml/2006/table">
            <a:tbl>
              <a:tblPr/>
              <a:tblGrid>
                <a:gridCol w="65160"/>
                <a:gridCol w="644400"/>
                <a:gridCol w="7250040"/>
              </a:tblGrid>
              <a:tr h="3398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F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75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Novos Espaços Esportiv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e Complexos Esportiv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7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Novos Espaços Esportivos Comunitários - Novo PA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F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Complexos Esportivos de Laz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7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Bolsa Atle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ização e Participação em Eventos Esportiv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Esportivos em G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o Programa TEATIV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7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rneios Regionais de Futebol Amad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Esporte e Lazer da Cidad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468360" y="1413000"/>
            <a:ext cx="8496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FEITURA MUNICIPAL – Diversas Unidades Orçamentárias (Secretari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Assistência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os Direitos da Criança e Adolesc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Assistência a Saúde do Servi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Saú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fesa dos Direitos do Consumi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s. do Me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Prevenção Contra Sinis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âmara Municipal de Vere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609480" y="274680"/>
            <a:ext cx="7925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ahoma"/>
              </a:rPr>
              <a:t>L D O –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strutura Administrati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716040" y="9810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dministração Dire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1"/>
          <p:cNvGrpSpPr/>
          <p:nvPr/>
        </p:nvGrpSpPr>
        <p:grpSpPr>
          <a:xfrm>
            <a:off x="468360" y="115920"/>
            <a:ext cx="8204040" cy="838080"/>
            <a:chOff x="468360" y="115920"/>
            <a:chExt cx="8204040" cy="838080"/>
          </a:xfrm>
        </p:grpSpPr>
        <p:sp>
          <p:nvSpPr>
            <p:cNvPr id="565" name="AutoShape 2"/>
            <p:cNvSpPr/>
            <p:nvPr/>
          </p:nvSpPr>
          <p:spPr>
            <a:xfrm>
              <a:off x="574560" y="115920"/>
              <a:ext cx="809784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Rectangle 3"/>
            <p:cNvSpPr/>
            <p:nvPr/>
          </p:nvSpPr>
          <p:spPr>
            <a:xfrm>
              <a:off x="468360" y="157320"/>
              <a:ext cx="803592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Calibri"/>
                </a:rPr>
                <a:t>ASSISTÊNCIA AO SERVIDOR – FUNSERVIR – R$ 61.2 m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627120" y="1197000"/>
          <a:ext cx="7877160" cy="2558880"/>
        </p:xfrm>
        <a:graphic>
          <a:graphicData uri="http://schemas.openxmlformats.org/drawingml/2006/table">
            <a:tbl>
              <a:tblPr/>
              <a:tblGrid>
                <a:gridCol w="65160"/>
                <a:gridCol w="635040"/>
                <a:gridCol w="7176960"/>
              </a:tblGrid>
              <a:tr h="5112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e Instalações da Sede Administrativa do FUNSERVI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12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NSERVI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2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de Saúde do Servid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"/>
          <p:cNvGrpSpPr/>
          <p:nvPr/>
        </p:nvGrpSpPr>
        <p:grpSpPr>
          <a:xfrm>
            <a:off x="539640" y="115920"/>
            <a:ext cx="8132760" cy="838080"/>
            <a:chOff x="539640" y="115920"/>
            <a:chExt cx="8132760" cy="838080"/>
          </a:xfrm>
        </p:grpSpPr>
        <p:sp>
          <p:nvSpPr>
            <p:cNvPr id="569" name="AutoShape 2"/>
            <p:cNvSpPr/>
            <p:nvPr/>
          </p:nvSpPr>
          <p:spPr>
            <a:xfrm>
              <a:off x="539640" y="115920"/>
              <a:ext cx="81327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Rectangle 3"/>
            <p:cNvSpPr/>
            <p:nvPr/>
          </p:nvSpPr>
          <p:spPr>
            <a:xfrm>
              <a:off x="571680" y="157320"/>
              <a:ext cx="8069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FUMPRESI – BOMBEIROS – R$ 5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1" name=""/>
          <p:cNvGraphicFramePr/>
          <p:nvPr/>
        </p:nvGraphicFramePr>
        <p:xfrm>
          <a:off x="684360" y="1268280"/>
          <a:ext cx="6410160" cy="2702160"/>
        </p:xfrm>
        <a:graphic>
          <a:graphicData uri="http://schemas.openxmlformats.org/drawingml/2006/table">
            <a:tbl>
              <a:tblPr/>
              <a:tblGrid>
                <a:gridCol w="52200"/>
                <a:gridCol w="519120"/>
                <a:gridCol w="5838840"/>
              </a:tblGrid>
              <a:tr h="5050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Postos de Guarda-Vid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0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UMPRES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0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quipamentos diversos - FUMPRES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1"/>
          <p:cNvGrpSpPr/>
          <p:nvPr/>
        </p:nvGrpSpPr>
        <p:grpSpPr>
          <a:xfrm>
            <a:off x="468360" y="115920"/>
            <a:ext cx="8132760" cy="838080"/>
            <a:chOff x="468360" y="115920"/>
            <a:chExt cx="8132760" cy="838080"/>
          </a:xfrm>
        </p:grpSpPr>
        <p:sp>
          <p:nvSpPr>
            <p:cNvPr id="573" name="AutoShape 2"/>
            <p:cNvSpPr/>
            <p:nvPr/>
          </p:nvSpPr>
          <p:spPr>
            <a:xfrm>
              <a:off x="468360" y="115920"/>
              <a:ext cx="81327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3"/>
            <p:cNvSpPr/>
            <p:nvPr/>
          </p:nvSpPr>
          <p:spPr>
            <a:xfrm>
              <a:off x="500040" y="157320"/>
              <a:ext cx="80694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PREVIDÊNCIA – BCPREVI – R$ 324.5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5" name=""/>
          <p:cNvGraphicFramePr/>
          <p:nvPr/>
        </p:nvGraphicFramePr>
        <p:xfrm>
          <a:off x="611280" y="1268280"/>
          <a:ext cx="6468840" cy="3208320"/>
        </p:xfrm>
        <a:graphic>
          <a:graphicData uri="http://schemas.openxmlformats.org/drawingml/2006/table">
            <a:tbl>
              <a:tblPr/>
              <a:tblGrid>
                <a:gridCol w="52200"/>
                <a:gridCol w="523800"/>
                <a:gridCol w="5892840"/>
              </a:tblGrid>
              <a:tr h="3398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BCPREV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7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Benefício Previdenciá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Imóvel Sede BCPREVI - Casa Do Servid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Eficiente da Taxa de Administração - BCPREV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7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 Benefícios Previdenciári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 de Sentenças e Precatórios do RPP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pensação Previdenciária - COMPREVI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1"/>
          <p:cNvGrpSpPr/>
          <p:nvPr/>
        </p:nvGrpSpPr>
        <p:grpSpPr>
          <a:xfrm>
            <a:off x="436680" y="69840"/>
            <a:ext cx="8278560" cy="836640"/>
            <a:chOff x="436680" y="69840"/>
            <a:chExt cx="8278560" cy="836640"/>
          </a:xfrm>
        </p:grpSpPr>
        <p:sp>
          <p:nvSpPr>
            <p:cNvPr id="577" name="AutoShape 2"/>
            <p:cNvSpPr/>
            <p:nvPr/>
          </p:nvSpPr>
          <p:spPr>
            <a:xfrm>
              <a:off x="436680" y="69840"/>
              <a:ext cx="8278560" cy="8366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Rectangle 3"/>
            <p:cNvSpPr/>
            <p:nvPr/>
          </p:nvSpPr>
          <p:spPr>
            <a:xfrm>
              <a:off x="498600" y="93600"/>
              <a:ext cx="821520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EMASA – R$ 244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436680" y="909720"/>
          <a:ext cx="7091280" cy="5308560"/>
        </p:xfrm>
        <a:graphic>
          <a:graphicData uri="http://schemas.openxmlformats.org/drawingml/2006/table">
            <a:tbl>
              <a:tblPr/>
              <a:tblGrid>
                <a:gridCol w="52200"/>
                <a:gridCol w="530280"/>
                <a:gridCol w="6508800"/>
              </a:tblGrid>
              <a:tr h="2808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peci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do Pasep - EMA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tização do Déficit Atuarial do RPPS - EMAS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Reservatório para Água Trata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o Projeto Parque Inundáve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e Rios e Córrego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o Projeto Rio Camboriú 203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s na Captação de Água Bru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Esgotamento Sanitári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na Estação de Tratamento de Esgo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Abastecimento de Águ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ão e Manutenção do Sistema de Águ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ão e Manutenção do Sistema de Esgo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Drenagem Urbana - EMA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jeto Produtor de Água do Rio Camboriú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EMA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catórios e Sentenças Judiciais - EMA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de Educação Ambiental da EMA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"/>
          <p:cNvGrpSpPr/>
          <p:nvPr/>
        </p:nvGrpSpPr>
        <p:grpSpPr>
          <a:xfrm>
            <a:off x="539640" y="189000"/>
            <a:ext cx="8132760" cy="836640"/>
            <a:chOff x="539640" y="189000"/>
            <a:chExt cx="8132760" cy="836640"/>
          </a:xfrm>
        </p:grpSpPr>
        <p:sp>
          <p:nvSpPr>
            <p:cNvPr id="581" name="AutoShape 2"/>
            <p:cNvSpPr/>
            <p:nvPr/>
          </p:nvSpPr>
          <p:spPr>
            <a:xfrm>
              <a:off x="539640" y="189000"/>
              <a:ext cx="8132760" cy="8366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Rectangle 3"/>
            <p:cNvSpPr/>
            <p:nvPr/>
          </p:nvSpPr>
          <p:spPr>
            <a:xfrm>
              <a:off x="571680" y="230040"/>
              <a:ext cx="80690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2500" spc="-1" strike="noStrike">
                  <a:solidFill>
                    <a:srgbClr val="ffffff"/>
                  </a:solidFill>
                  <a:latin typeface="Calibri"/>
                </a:rPr>
                <a:t>CÂMARA DE VEREADORES – R$ 47.1 mi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83" name=""/>
          <p:cNvGraphicFramePr/>
          <p:nvPr/>
        </p:nvGraphicFramePr>
        <p:xfrm>
          <a:off x="684360" y="1268280"/>
          <a:ext cx="6410160" cy="4110120"/>
        </p:xfrm>
        <a:graphic>
          <a:graphicData uri="http://schemas.openxmlformats.org/drawingml/2006/table">
            <a:tbl>
              <a:tblPr/>
              <a:tblGrid>
                <a:gridCol w="52200"/>
                <a:gridCol w="519120"/>
                <a:gridCol w="5838840"/>
              </a:tblGrid>
              <a:tr h="5032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da Sede do Legislativ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16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e Pessoas do Poder Legislativ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70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Administrativa do Poder Legisl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9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Publicidade e Propaganda, Rádio e TV Câm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8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a Escola do Legislativ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9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a Infraestrutura do Poder Legislativ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1"/>
          <p:cNvGrpSpPr/>
          <p:nvPr/>
        </p:nvGrpSpPr>
        <p:grpSpPr>
          <a:xfrm>
            <a:off x="395280" y="115920"/>
            <a:ext cx="8277120" cy="838080"/>
            <a:chOff x="395280" y="115920"/>
            <a:chExt cx="8277120" cy="838080"/>
          </a:xfrm>
        </p:grpSpPr>
        <p:sp>
          <p:nvSpPr>
            <p:cNvPr id="585" name="AutoShape 2"/>
            <p:cNvSpPr/>
            <p:nvPr/>
          </p:nvSpPr>
          <p:spPr>
            <a:xfrm>
              <a:off x="395280" y="115920"/>
              <a:ext cx="827712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Rectangle 3"/>
            <p:cNvSpPr/>
            <p:nvPr/>
          </p:nvSpPr>
          <p:spPr>
            <a:xfrm>
              <a:off x="426960" y="157320"/>
              <a:ext cx="82137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4120"/>
                  <a:tab algn="l" pos="3110040"/>
                  <a:tab algn="l" pos="4665600"/>
                  <a:tab algn="l" pos="6221520"/>
                  <a:tab algn="l" pos="7777080"/>
                  <a:tab algn="l" pos="9333000"/>
                  <a:tab algn="l" pos="108885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1" lang="pt-BR" sz="2600" spc="-1" strike="noStrike">
                  <a:solidFill>
                    <a:srgbClr val="ffffff"/>
                  </a:solidFill>
                  <a:latin typeface="Calibri"/>
                </a:rPr>
                <a:t>BCTRÂNSITO – R$ 53.2 mi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87" name=""/>
          <p:cNvGraphicFramePr/>
          <p:nvPr/>
        </p:nvGraphicFramePr>
        <p:xfrm>
          <a:off x="452520" y="1268280"/>
          <a:ext cx="8064360" cy="4681800"/>
        </p:xfrm>
        <a:graphic>
          <a:graphicData uri="http://schemas.openxmlformats.org/drawingml/2006/table">
            <a:tbl>
              <a:tblPr/>
              <a:tblGrid>
                <a:gridCol w="88920"/>
                <a:gridCol w="650880"/>
                <a:gridCol w="7324560"/>
              </a:tblGrid>
              <a:tr h="3524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BCTRÂNSITO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BCTRÂNS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2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- BCTRÂNSI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1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tão Alimentação aos Servidores BCTRÂNSIT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e Convênio de Trâns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1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olícia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olícia Mili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ções de Educação para Segurança no Trâns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iciamento e Fiscalização do Trâns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genharia de Tráfego e de Camp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aptações e Manutenções da Sinalização Viá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1280"/>
                          <a:tab algn="l" pos="1078056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Melhoria no Transporte Coletiv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Imagem 3" descr=""/>
          <p:cNvPicPr/>
          <p:nvPr/>
        </p:nvPicPr>
        <p:blipFill>
          <a:blip r:embed="rId1"/>
          <a:stretch/>
        </p:blipFill>
        <p:spPr>
          <a:xfrm>
            <a:off x="2085840" y="4149720"/>
            <a:ext cx="4934160" cy="1447920"/>
          </a:xfrm>
          <a:prstGeom prst="rect">
            <a:avLst/>
          </a:prstGeom>
          <a:ln w="0">
            <a:noFill/>
          </a:ln>
        </p:spPr>
      </p:pic>
      <p:sp>
        <p:nvSpPr>
          <p:cNvPr id="589" name="CaixaDeTexto 5"/>
          <p:cNvSpPr/>
          <p:nvPr/>
        </p:nvSpPr>
        <p:spPr>
          <a:xfrm>
            <a:off x="1908000" y="1260360"/>
            <a:ext cx="52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200" spc="-1" strike="noStrike">
                <a:solidFill>
                  <a:srgbClr val="2d2db9"/>
                </a:solidFill>
                <a:latin typeface="Google Sans"/>
              </a:rPr>
              <a:t>"O sucesso do planejamento não está em prever o futuro, mas em prepará-lo"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"/>
          <p:cNvSpPr/>
          <p:nvPr/>
        </p:nvSpPr>
        <p:spPr>
          <a:xfrm>
            <a:off x="1763640" y="26028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400" spc="-1" strike="noStrike">
                <a:solidFill>
                  <a:srgbClr val="0070c0"/>
                </a:solidFill>
                <a:latin typeface="Arial"/>
              </a:rPr>
              <a:t>OBRIGADA PELA ATEN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826920" y="2951280"/>
            <a:ext cx="2592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Elaboraçã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</a:rPr>
              <a:t>Apresentaçã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3886200" y="3668760"/>
            <a:ext cx="2808360" cy="11192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4"/>
          <p:cNvSpPr/>
          <p:nvPr/>
        </p:nvSpPr>
        <p:spPr>
          <a:xfrm>
            <a:off x="3924000" y="2870280"/>
            <a:ext cx="19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</a:rPr>
              <a:t>SEFAZ E SE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592200" y="1484280"/>
            <a:ext cx="8496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tarquia Municipal de  Trânsito – BC Trâns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stituto de Previdência Social Servidores Municipais - BCPRE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presa Municipal de Água e Saneamento - EM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ação Cultural - FC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ação Municipal de Esporte - F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609480" y="274680"/>
            <a:ext cx="7925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ahoma"/>
              </a:rPr>
              <a:t>L D O –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strutura Administrati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717840" y="98100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dministração Indire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971640" y="404640"/>
            <a:ext cx="733896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53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68320"/>
                <a:tab algn="l" pos="1782720"/>
                <a:tab algn="l" pos="2697120"/>
                <a:tab algn="l" pos="3611520"/>
                <a:tab algn="l" pos="4525920"/>
                <a:tab algn="l" pos="5440320"/>
                <a:tab algn="l" pos="6354720"/>
                <a:tab algn="l" pos="7269120"/>
                <a:tab algn="l" pos="8183520"/>
                <a:tab algn="l" pos="9097920"/>
                <a:tab algn="l" pos="10012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53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68320"/>
                <a:tab algn="l" pos="1782720"/>
                <a:tab algn="l" pos="2697120"/>
                <a:tab algn="l" pos="3611520"/>
                <a:tab algn="l" pos="4525920"/>
                <a:tab algn="l" pos="5440320"/>
                <a:tab algn="l" pos="6354720"/>
                <a:tab algn="l" pos="7269120"/>
                <a:tab algn="l" pos="8183520"/>
                <a:tab algn="l" pos="9097920"/>
                <a:tab algn="l" pos="10012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2124000" y="26028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DO 202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26920" y="177336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pt-BR" sz="3600" spc="-1" strike="noStrike" u="sng">
                <a:solidFill>
                  <a:srgbClr val="000000"/>
                </a:solidFill>
                <a:uFillTx/>
                <a:latin typeface="Arial"/>
                <a:ea typeface="Microsoft YaHei"/>
              </a:rPr>
              <a:t>PRAZO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Envio ao Legislativo até 15/08/20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Aprovação até 15/09/20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826920" y="1125360"/>
            <a:ext cx="720108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716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716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2"/>
          <p:cNvSpPr/>
          <p:nvPr/>
        </p:nvSpPr>
        <p:spPr>
          <a:xfrm>
            <a:off x="684360" y="1521000"/>
            <a:ext cx="2592360" cy="3743280"/>
          </a:xfrm>
          <a:prstGeom prst="flowChartAlternateProcess">
            <a:avLst/>
          </a:prstGeom>
          <a:solidFill>
            <a:srgbClr val="1f4e79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Arial Black"/>
              </a:rPr>
              <a:t>PP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20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20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3781440" y="156852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5815080" y="153828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3349800" y="1862280"/>
            <a:ext cx="431640" cy="21744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3341520" y="285588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3325680" y="375300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3349800" y="476100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5348160" y="174312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0"/>
          <p:cNvSpPr/>
          <p:nvPr/>
        </p:nvSpPr>
        <p:spPr>
          <a:xfrm>
            <a:off x="5318280" y="27478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5337000" y="386244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2"/>
          <p:cNvSpPr/>
          <p:nvPr/>
        </p:nvSpPr>
        <p:spPr>
          <a:xfrm>
            <a:off x="5348160" y="471636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13"/>
          <p:cNvSpPr/>
          <p:nvPr/>
        </p:nvSpPr>
        <p:spPr>
          <a:xfrm>
            <a:off x="5813280" y="360216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14"/>
          <p:cNvSpPr/>
          <p:nvPr/>
        </p:nvSpPr>
        <p:spPr>
          <a:xfrm>
            <a:off x="5813280" y="253224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898560" y="1810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</a:t>
            </a: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Elo com PP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16"/>
          <p:cNvSpPr/>
          <p:nvPr/>
        </p:nvSpPr>
        <p:spPr>
          <a:xfrm>
            <a:off x="3816360" y="26082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17"/>
          <p:cNvSpPr/>
          <p:nvPr/>
        </p:nvSpPr>
        <p:spPr>
          <a:xfrm>
            <a:off x="3816360" y="35766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18"/>
          <p:cNvSpPr/>
          <p:nvPr/>
        </p:nvSpPr>
        <p:spPr>
          <a:xfrm>
            <a:off x="3828960" y="454500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19"/>
          <p:cNvSpPr/>
          <p:nvPr/>
        </p:nvSpPr>
        <p:spPr>
          <a:xfrm>
            <a:off x="5813280" y="454500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971640" y="1989000"/>
            <a:ext cx="71578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7200" spc="-1" strike="noStrike">
                <a:solidFill>
                  <a:srgbClr val="3b3838"/>
                </a:solidFill>
                <a:latin typeface="Calibri Light"/>
              </a:rPr>
              <a:t>METAS DE RECEITAS</a:t>
            </a:r>
            <a:br>
              <a:rPr sz="7200"/>
            </a:b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Origem dos Recurs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547640" y="2286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202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eline Poleza</dc:creator>
  <dc:description/>
  <dc:language>en-US</dc:language>
  <cp:lastModifiedBy>Iago Severino Nunes Cabral</cp:lastModifiedBy>
  <dcterms:modified xsi:type="dcterms:W3CDTF">2025-09-05T18:38:12Z</dcterms:modified>
  <cp:revision>132</cp:revision>
  <dc:subject/>
  <dc:title>Apresentação do PowerPoint</dc:title>
</cp:coreProperties>
</file>